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58-4031-41AA-AA76-9CE4FC68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9E7-DF48-42E6-9831-D1D07E28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391-AA42-440F-BF87-1889F9C8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F95-FE58-4C00-B823-4A971B2D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C22-46A6-4E43-A2F4-D2B44318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450-6901-489C-AD4C-D595AD1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561-636E-4815-9EC6-2FABAA4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E74-ECB4-427A-AC6E-F4AEBA09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0A3-F91B-4F8B-AB26-64DC315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1D7-F92B-4739-8B09-584F592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C3E-086E-44E3-876E-A33B4D0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EB5-7601-401D-A0A7-8A3FF7F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611-484E-420E-AA20-F817715FAA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7273800" cy="1440000"/>
          </a:xfrm>
          <a:prstGeom prst="rect">
            <a:avLst/>
          </a:prstGeom>
          <a:solidFill>
            <a:srgbClr val="309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5080" y="4826160"/>
            <a:ext cx="215640" cy="1152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4754520"/>
            <a:ext cx="216000" cy="12240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14680" y="4754520"/>
            <a:ext cx="193680" cy="12304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4683240"/>
            <a:ext cx="216000" cy="130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7440" y="3068640"/>
            <a:ext cx="7272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33440"/>
            <a:ext cx="7273800" cy="908280"/>
          </a:xfrm>
          <a:prstGeom prst="rect">
            <a:avLst/>
          </a:prstGeom>
          <a:solidFill>
            <a:srgbClr val="b4e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5979960"/>
            <a:ext cx="8136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429000"/>
            <a:ext cx="28800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T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S/.1’606,468.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Z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150 D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MIENTO  : RENTA DE ADUAN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ALIDA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LICITACION PUBL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234936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"AMPLIACIÓN, REHABILITACIÓN Y EQUIPAMIENTO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DE LA I.E. Nº 5099 RICARDO PALMA - CALLAO"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0920" y="148428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Gobierno Regional del Calla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9079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20 x 3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298520"/>
            <a:ext cx="620640" cy="90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372360" y="4076640"/>
            <a:ext cx="1584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Alex  Kouri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59640" y="4292640"/>
            <a:ext cx="9367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Presidente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9080" y="43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7a00"/>
                </a:solidFill>
                <a:latin typeface="Arial Narrow"/>
              </a:rPr>
              <a:t>¡Trabajando para ti, en todas par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114920" y="1268280"/>
            <a:ext cx="727236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9:33:26Z</dcterms:created>
  <dc:creator>jcastillo</dc:creator>
  <dc:description/>
  <dc:language>en-US</dc:language>
  <cp:lastModifiedBy>jcastillo</cp:lastModifiedBy>
  <dcterms:modified xsi:type="dcterms:W3CDTF">2007-07-31T19:11:31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0446555</vt:r8>
  </property>
  <property fmtid="{D5CDD505-2E9C-101B-9397-08002B2CF9AE}" pid="3" name="_AuthorEmail">
    <vt:lpwstr>jcastillo@regioncallao.gob.pe</vt:lpwstr>
  </property>
  <property fmtid="{D5CDD505-2E9C-101B-9397-08002B2CF9AE}" pid="4" name="_AuthorEmailDisplayName">
    <vt:lpwstr>Jhonny Castillo Peramas</vt:lpwstr>
  </property>
  <property fmtid="{D5CDD505-2E9C-101B-9397-08002B2CF9AE}" pid="5" name="_EmailSubject">
    <vt:lpwstr>CARTEL 2007 ACTUALIZADO.ppt</vt:lpwstr>
  </property>
</Properties>
</file>