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619250" cy="990282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F6C-2BC6-4B07-AC63-DE55CDBF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7080" y="605664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71B-B11D-4255-B417-D588DFF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2232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FE4-62CA-49F4-85BE-6A881A4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256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768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1708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68256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14768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93D-6928-4AF3-9676-18E459DD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785-E63B-4926-8566-21732348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7080" y="2952720"/>
            <a:ext cx="137628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B02-509F-43F2-9EBB-B0BF20A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137628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88D-1296-4933-BE8C-16880D7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EBBA-A0EE-43B7-BAFE-4C49C868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100-E54D-4C3F-8BBE-D4B36C5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17080" y="604800"/>
            <a:ext cx="137628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073D-3EF2-473B-A687-399C4550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8221-108B-4D98-B3C8-7A0E8BB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17080" y="2952720"/>
            <a:ext cx="137628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E1E-4C3B-4EB4-ABDE-25AD176A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2232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791A-3A81-42E5-B0CC-9562872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876F-787E-41C8-B8C3-2EFF413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17080" y="605664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74F5-4E5D-4A88-9ED7-4C5C2A41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2232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17FB-2B32-4F25-9417-7E4C3C3A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256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7680" y="295272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1708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68256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147680" y="6056640"/>
            <a:ext cx="4428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A408-B893-4EA9-A9C0-65C42074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137628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F67-7C80-4E9B-91E5-C4DE2AC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C6B-E3EA-40A0-9110-BFA1B1F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F47-2E10-4F8F-AF11-0F8AF8B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17080" y="604800"/>
            <a:ext cx="137628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6E3-B08E-4971-852F-2651EC9D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31B-FF9F-4A96-8414-5396171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22320" y="605664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33D-408D-4B64-8DE8-F0529E4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7080" y="-519480"/>
            <a:ext cx="1376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708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2320" y="2952720"/>
            <a:ext cx="67140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17080" y="6056640"/>
            <a:ext cx="1376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1B0-A1F3-46FA-924B-57B09CF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080" y="604800"/>
            <a:ext cx="1376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7080" y="2952720"/>
            <a:ext cx="137628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289440" indent="-11124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445680" indent="-8892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623880" indent="-8892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802080" indent="-8892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802080" indent="-8892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802080" indent="-8892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7080" y="9023400"/>
            <a:ext cx="338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0880" y="9023400"/>
            <a:ext cx="5126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58920" y="9023400"/>
            <a:ext cx="334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FF66-2097-4633-AD74-3421327D36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640" y="453600"/>
            <a:ext cx="152280" cy="9448560"/>
            <a:chOff x="26640" y="453600"/>
            <a:chExt cx="152280" cy="9448560"/>
          </a:xfrm>
        </p:grpSpPr>
        <p:sp>
          <p:nvSpPr>
            <p:cNvPr id="6" name=""/>
            <p:cNvSpPr/>
            <p:nvPr/>
          </p:nvSpPr>
          <p:spPr>
            <a:xfrm flipH="1" rot="5400000">
              <a:off x="-543240" y="51062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543240" y="646776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-543960" y="782712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-537120" y="9186480"/>
              <a:ext cx="1279080" cy="152280"/>
            </a:xfrm>
            <a:prstGeom prst="parallelogram">
              <a:avLst>
                <a:gd name="adj" fmla="val 44478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-543240" y="10238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-543960" y="237636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-543960" y="374220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79200" y="0"/>
            <a:ext cx="4788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4680" y="2459160"/>
            <a:ext cx="1525320" cy="366480"/>
          </a:xfrm>
          <a:custGeom>
            <a:avLst/>
            <a:gdLst>
              <a:gd name="textAreaLeft" fmla="*/ -360 w 1525320"/>
              <a:gd name="textAreaRight" fmla="*/ 1525320 w 1525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4240" y="2463840"/>
            <a:ext cx="4896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4240" y="2762280"/>
            <a:ext cx="3312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633680" y="2421000"/>
            <a:ext cx="5400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1000" y="2513160"/>
            <a:ext cx="15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7000" y="0"/>
            <a:ext cx="152280" cy="9902520"/>
            <a:chOff x="27000" y="0"/>
            <a:chExt cx="152280" cy="9902520"/>
          </a:xfrm>
        </p:grpSpPr>
        <p:sp>
          <p:nvSpPr>
            <p:cNvPr id="20" name=""/>
            <p:cNvSpPr/>
            <p:nvPr/>
          </p:nvSpPr>
          <p:spPr>
            <a:xfrm rot="16200000">
              <a:off x="-542880" y="578736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-543600" y="7149960"/>
              <a:ext cx="1294560" cy="151920"/>
            </a:xfrm>
            <a:prstGeom prst="parallelogram">
              <a:avLst>
                <a:gd name="adj" fmla="val 4512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-543240" y="85100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-543600" y="1699200"/>
              <a:ext cx="1294560" cy="151920"/>
            </a:xfrm>
            <a:prstGeom prst="parallelogram">
              <a:avLst>
                <a:gd name="adj" fmla="val 4512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-543240" y="305928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543240" y="442512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7720" y="0"/>
              <a:ext cx="15156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7000" y="9306360"/>
              <a:ext cx="13032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1620720" cy="9902160"/>
            <a:chOff x="0" y="0"/>
            <a:chExt cx="1620720" cy="990216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1620720" cy="122616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7213320"/>
              <a:ext cx="1620720" cy="268884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2200320"/>
            <a:ext cx="1376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231840" y="9023400"/>
            <a:ext cx="334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662040" y="9023400"/>
            <a:ext cx="511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1269720" y="9023400"/>
            <a:ext cx="338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EAEC-5991-479A-8739-600568CC26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40" y="453600"/>
            <a:ext cx="152280" cy="9448560"/>
            <a:chOff x="26640" y="453600"/>
            <a:chExt cx="152280" cy="9448560"/>
          </a:xfrm>
        </p:grpSpPr>
        <p:sp>
          <p:nvSpPr>
            <p:cNvPr id="72" name=""/>
            <p:cNvSpPr/>
            <p:nvPr/>
          </p:nvSpPr>
          <p:spPr>
            <a:xfrm flipH="1" rot="5400000">
              <a:off x="-543240" y="51062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543240" y="646776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-543960" y="782712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-537120" y="9186480"/>
              <a:ext cx="1279080" cy="152280"/>
            </a:xfrm>
            <a:prstGeom prst="parallelogram">
              <a:avLst>
                <a:gd name="adj" fmla="val 444786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-543240" y="10238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-543960" y="237636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-543960" y="3742200"/>
              <a:ext cx="1292760" cy="152280"/>
            </a:xfrm>
            <a:prstGeom prst="parallelogram">
              <a:avLst>
                <a:gd name="adj" fmla="val 44954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9200" y="0"/>
            <a:ext cx="4788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4680" y="3924360"/>
            <a:ext cx="1525320" cy="366480"/>
          </a:xfrm>
          <a:custGeom>
            <a:avLst/>
            <a:gdLst>
              <a:gd name="textAreaLeft" fmla="*/ -360 w 1525320"/>
              <a:gd name="textAreaRight" fmla="*/ 1525320 w 1525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389412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240" y="3898800"/>
            <a:ext cx="284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3894120"/>
            <a:ext cx="5220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680" y="3986280"/>
            <a:ext cx="155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000" y="0"/>
            <a:ext cx="152280" cy="9902520"/>
            <a:chOff x="27000" y="0"/>
            <a:chExt cx="152280" cy="9902520"/>
          </a:xfrm>
        </p:grpSpPr>
        <p:sp>
          <p:nvSpPr>
            <p:cNvPr id="86" name=""/>
            <p:cNvSpPr/>
            <p:nvPr/>
          </p:nvSpPr>
          <p:spPr>
            <a:xfrm rot="16200000">
              <a:off x="-542880" y="578736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543600" y="7149960"/>
              <a:ext cx="1294560" cy="151920"/>
            </a:xfrm>
            <a:prstGeom prst="parallelogram">
              <a:avLst>
                <a:gd name="adj" fmla="val 4512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543240" y="851004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543600" y="1699200"/>
              <a:ext cx="1294560" cy="151920"/>
            </a:xfrm>
            <a:prstGeom prst="parallelogram">
              <a:avLst>
                <a:gd name="adj" fmla="val 4512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543240" y="305928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543240" y="4425120"/>
              <a:ext cx="1292760" cy="151920"/>
            </a:xfrm>
            <a:prstGeom prst="parallelogram">
              <a:avLst>
                <a:gd name="adj" fmla="val 450608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20" y="0"/>
              <a:ext cx="15156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0" y="9306360"/>
              <a:ext cx="13032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128160"/>
            <a:ext cx="1620720" cy="77472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264520"/>
            <a:ext cx="162072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0" y="25596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1932"/>
                </a:solidFill>
                <a:latin typeface="Arial Black"/>
              </a:rPr>
              <a:t>EXPEDIEN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1932"/>
                </a:solidFill>
                <a:latin typeface="Arial Black"/>
              </a:rPr>
              <a:t>TEC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24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[ORIGINAL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600" y="8466480"/>
            <a:ext cx="12844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Arial Black"/>
              </a:rPr>
              <a:t>TOMO I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Arial Black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64920" y="516672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b650d"/>
                </a:solidFill>
                <a:latin typeface="Arial"/>
              </a:rPr>
              <a:t>AMPLIACION, REHABILITACION Y EQUIPAMIENTO DE LA I.E. Nº 5099 “RICARDO PALMA – CALLAO”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620720" cy="214308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920" y="1357200"/>
            <a:ext cx="150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GOBIERNO  REGION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 DEL  CALL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1160"/>
            <a:ext cx="1617840" cy="7920"/>
          </a:xfrm>
          <a:prstGeom prst="line">
            <a:avLst/>
          </a:prstGeom>
          <a:ln w="127080">
            <a:solidFill>
              <a:srgbClr val="159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1616040" cy="504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640"/>
            <a:ext cx="1623960" cy="9902520"/>
          </a:xfrm>
          <a:prstGeom prst="rect">
            <a:avLst/>
          </a:prstGeom>
          <a:noFill/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3720" y="250920"/>
            <a:ext cx="8193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28:45Z</dcterms:created>
  <dc:creator>ULISES BARRIONUEVO JARA</dc:creator>
  <dc:description/>
  <dc:language>en-US</dc:language>
  <cp:lastModifiedBy>winciso</cp:lastModifiedBy>
  <cp:lastPrinted>2000-02-04T17:24:34Z</cp:lastPrinted>
  <dcterms:modified xsi:type="dcterms:W3CDTF">2007-06-26T19:26:07Z</dcterms:modified>
  <cp:revision>44</cp:revision>
  <dc:subject/>
  <dc:title>Sin título de diapositiva</dc:title>
</cp:coreProperties>
</file>