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700338" cy="9902825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F32-825A-4501-84F1-686D966A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2295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0360" y="6056640"/>
            <a:ext cx="2295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8BD-8112-47AF-B234-4C4BF82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6036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3684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CF9-B026-4964-B313-C2A7D4AB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36520" y="295272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12320" y="295272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360360" y="605664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1136520" y="605664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1912320" y="605664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5F9-94BB-477E-88B9-B90CC9C6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A3B0-B18E-4E05-849C-694D9FCD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60360" y="2952720"/>
            <a:ext cx="229536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93CB-64D7-4262-A127-4B0F07DA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2295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BE7E-1872-4D6C-BC0B-B39BDE9A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50AE-33ED-4D60-816C-B853223A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AD74-D101-4049-953D-5464A3F0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60360" y="604800"/>
            <a:ext cx="229536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9188-AA7E-42AB-83BC-1C21DD3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6036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66DE-B4C8-43A3-8B45-E97F2CA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360360" y="2952720"/>
            <a:ext cx="229536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323-82B6-4AD6-BBCD-28AB9801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3684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191-760C-4610-9607-96B303C0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0360" y="6056640"/>
            <a:ext cx="2295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07D5-F430-466E-86B6-39D8A3B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2295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0360" y="6056640"/>
            <a:ext cx="2295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2F5-AFC6-401D-999B-1DF74FC5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6036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53684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2BA8-05A3-4BEA-AFB4-BDD6BA9C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36520" y="295272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12320" y="295272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60360" y="605664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1136520" y="605664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1912320" y="6056640"/>
            <a:ext cx="7387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BC42-EE97-4898-8796-982BB250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2295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F75-47D5-4745-92FD-04D06031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7E5-22D8-4403-B26E-25B5456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D5B-AFFD-4376-9D43-042A9D17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360360" y="604800"/>
            <a:ext cx="229536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D63-DCE8-48E0-B096-44585E33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036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290-AD7E-4AC9-85D5-2129EF62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36840" y="605664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B3E-79C5-4859-BCE3-9A06732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150840"/>
            <a:ext cx="22953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36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536840" y="2952720"/>
            <a:ext cx="11199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60360" y="6056640"/>
            <a:ext cx="2295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150-CFA7-43B6-BAAF-6FBC9807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604800"/>
            <a:ext cx="22953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952720"/>
            <a:ext cx="2295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30920" indent="-16560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662760" indent="-1324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928080" indent="-1324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193040" indent="-1324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1193040" indent="-1324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1193040" indent="-1324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1800" y="9023400"/>
            <a:ext cx="563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2160" y="9023400"/>
            <a:ext cx="8557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5200" y="9023400"/>
            <a:ext cx="5619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5EFF-CF77-4E5D-B085-90FD9AC5125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3920" y="453600"/>
            <a:ext cx="252720" cy="9448560"/>
            <a:chOff x="43920" y="453600"/>
            <a:chExt cx="252720" cy="9448560"/>
          </a:xfrm>
        </p:grpSpPr>
        <p:sp>
          <p:nvSpPr>
            <p:cNvPr id="6" name=""/>
            <p:cNvSpPr/>
            <p:nvPr/>
          </p:nvSpPr>
          <p:spPr>
            <a:xfrm flipH="1" rot="5400000">
              <a:off x="-476280" y="505620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-476280" y="641772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-476640" y="777708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-469800" y="9136440"/>
              <a:ext cx="1279080" cy="252360"/>
            </a:xfrm>
            <a:prstGeom prst="parallelogram">
              <a:avLst>
                <a:gd name="adj" fmla="val 26839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-476280" y="97380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-476640" y="232632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-476640" y="369216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31760" y="0"/>
            <a:ext cx="7920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158760" y="2459160"/>
            <a:ext cx="2541600" cy="366480"/>
          </a:xfrm>
          <a:custGeom>
            <a:avLst/>
            <a:gdLst>
              <a:gd name="textAreaLeft" fmla="*/ 360 w 2541600"/>
              <a:gd name="textAreaRight" fmla="*/ 2542320 w 25416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38240" y="2463840"/>
            <a:ext cx="8568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38240" y="2762280"/>
            <a:ext cx="55440" cy="67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720880" y="2421000"/>
            <a:ext cx="8892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33200" y="2513160"/>
            <a:ext cx="2587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44280" y="0"/>
            <a:ext cx="252720" cy="9902520"/>
            <a:chOff x="44280" y="0"/>
            <a:chExt cx="252720" cy="9902520"/>
          </a:xfrm>
        </p:grpSpPr>
        <p:sp>
          <p:nvSpPr>
            <p:cNvPr id="20" name=""/>
            <p:cNvSpPr/>
            <p:nvPr/>
          </p:nvSpPr>
          <p:spPr>
            <a:xfrm rot="16200000">
              <a:off x="-475200" y="573732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-475920" y="7099920"/>
              <a:ext cx="1294560" cy="252000"/>
            </a:xfrm>
            <a:prstGeom prst="parallelogram">
              <a:avLst>
                <a:gd name="adj" fmla="val 2720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-475560" y="846000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-475920" y="1649160"/>
              <a:ext cx="1294560" cy="252000"/>
            </a:xfrm>
            <a:prstGeom prst="parallelogram">
              <a:avLst>
                <a:gd name="adj" fmla="val 2720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-475560" y="300924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-475560" y="437508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5360" y="0"/>
              <a:ext cx="2512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4280" y="9306360"/>
              <a:ext cx="21600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2700360" cy="9902160"/>
            <a:chOff x="0" y="0"/>
            <a:chExt cx="2700360" cy="990216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2700360" cy="122616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7213320"/>
              <a:ext cx="2700360" cy="268884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2680" y="2200320"/>
            <a:ext cx="22953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2320" y="9023400"/>
            <a:ext cx="5619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1101240" y="9023400"/>
            <a:ext cx="854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2115720" y="9023400"/>
            <a:ext cx="5619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2DE-E441-4604-869C-23B6B331100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920" y="453600"/>
            <a:ext cx="252720" cy="9448560"/>
            <a:chOff x="43920" y="453600"/>
            <a:chExt cx="252720" cy="9448560"/>
          </a:xfrm>
        </p:grpSpPr>
        <p:sp>
          <p:nvSpPr>
            <p:cNvPr id="72" name=""/>
            <p:cNvSpPr/>
            <p:nvPr/>
          </p:nvSpPr>
          <p:spPr>
            <a:xfrm flipH="1" rot="5400000">
              <a:off x="-476280" y="505620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-476280" y="641772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-476640" y="777708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-469800" y="9136440"/>
              <a:ext cx="1279080" cy="252360"/>
            </a:xfrm>
            <a:prstGeom prst="parallelogram">
              <a:avLst>
                <a:gd name="adj" fmla="val 26839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-476280" y="97380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-476640" y="232632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-476640" y="3692160"/>
              <a:ext cx="1292760" cy="252360"/>
            </a:xfrm>
            <a:prstGeom prst="parallelogram">
              <a:avLst>
                <a:gd name="adj" fmla="val 27126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31760" y="0"/>
            <a:ext cx="7920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58760" y="3924360"/>
            <a:ext cx="2541600" cy="366480"/>
          </a:xfrm>
          <a:custGeom>
            <a:avLst/>
            <a:gdLst>
              <a:gd name="textAreaLeft" fmla="*/ 360 w 2541600"/>
              <a:gd name="textAreaRight" fmla="*/ 2542320 w 25416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7080" y="3894120"/>
            <a:ext cx="8892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8240" y="3898800"/>
            <a:ext cx="4752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28800" y="3894120"/>
            <a:ext cx="8892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2920" y="3986280"/>
            <a:ext cx="25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280" y="0"/>
            <a:ext cx="252720" cy="9902520"/>
            <a:chOff x="44280" y="0"/>
            <a:chExt cx="252720" cy="9902520"/>
          </a:xfrm>
        </p:grpSpPr>
        <p:sp>
          <p:nvSpPr>
            <p:cNvPr id="86" name=""/>
            <p:cNvSpPr/>
            <p:nvPr/>
          </p:nvSpPr>
          <p:spPr>
            <a:xfrm rot="16200000">
              <a:off x="-475200" y="573732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-475920" y="7099920"/>
              <a:ext cx="1294560" cy="252000"/>
            </a:xfrm>
            <a:prstGeom prst="parallelogram">
              <a:avLst>
                <a:gd name="adj" fmla="val 2720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-475560" y="846000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-475920" y="1649160"/>
              <a:ext cx="1294560" cy="252000"/>
            </a:xfrm>
            <a:prstGeom prst="parallelogram">
              <a:avLst>
                <a:gd name="adj" fmla="val 2720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475560" y="300924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-475560" y="4375080"/>
              <a:ext cx="1292760" cy="252000"/>
            </a:xfrm>
            <a:prstGeom prst="parallelogram">
              <a:avLst>
                <a:gd name="adj" fmla="val 27165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360" y="0"/>
              <a:ext cx="2512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280" y="9306360"/>
              <a:ext cx="21600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128160"/>
            <a:ext cx="2700360" cy="77472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264520"/>
            <a:ext cx="2700360" cy="93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0000" y="2492280"/>
            <a:ext cx="213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EXPEDIEN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TECN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00" y="940752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[ORIGINA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8455680"/>
            <a:ext cx="21412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 Black"/>
              </a:rPr>
              <a:t>TOMO 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Arial Black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026720" y="5167440"/>
            <a:ext cx="48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b650d"/>
                </a:solidFill>
                <a:latin typeface="Arial"/>
              </a:rPr>
              <a:t>AMPLIACION, REHABILITACION Y EQUIPAMIENTO DE LA I.E. Nº 5099 “RICARDO PALMA – CALLAO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2700360" cy="214308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" y="1612800"/>
            <a:ext cx="251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GOBIERNO  REGION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 DEL  CALLA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1160"/>
            <a:ext cx="2695680" cy="7920"/>
          </a:xfrm>
          <a:prstGeom prst="line">
            <a:avLst/>
          </a:prstGeom>
          <a:ln w="127080">
            <a:solidFill>
              <a:srgbClr val="159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2692440" cy="504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640"/>
            <a:ext cx="2703600" cy="9902520"/>
          </a:xfrm>
          <a:prstGeom prst="rect">
            <a:avLst/>
          </a:prstGeom>
          <a:noFill/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5720" y="106200"/>
            <a:ext cx="990720" cy="153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28:45Z</dcterms:created>
  <dc:creator>ULISES BARRIONUEVO JARA</dc:creator>
  <dc:description/>
  <dc:language>en-US</dc:language>
  <cp:lastModifiedBy>winciso</cp:lastModifiedBy>
  <cp:lastPrinted>2000-02-04T17:24:34Z</cp:lastPrinted>
  <dcterms:modified xsi:type="dcterms:W3CDTF">2007-06-26T19:26:29Z</dcterms:modified>
  <cp:revision>43</cp:revision>
  <dc:subject/>
  <dc:title>Sin título de diapositiva</dc:title>
</cp:coreProperties>
</file>