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2268538" cy="9902825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F15-0AEE-4B7E-8023-9F9C856F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19274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03120" y="6056640"/>
            <a:ext cx="19274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448-21B5-4762-840E-6EC2979E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29096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3120" y="605664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290960" y="605664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2AD-7AEF-4E57-BB62-0BFAF8E5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954720" y="295272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06320" y="295272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303120" y="605664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954720" y="605664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1606320" y="605664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489-ED6E-447A-A6A3-56DD07CA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A302-6767-489A-904F-02F22417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3120" y="2952720"/>
            <a:ext cx="192744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155D-58BD-45BE-8188-F74B9FD6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192744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339D-269E-425E-B277-6960F66E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9403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90960" y="2952720"/>
            <a:ext cx="9403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55B4-F9F6-4C8A-8D9A-1EF678C2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FF9C-3DFD-4E41-AACD-E3DF052D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3120" y="604800"/>
            <a:ext cx="1927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7359-D014-4642-B980-F6B14C47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290960" y="2952720"/>
            <a:ext cx="9403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3120" y="605664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1CB5-9239-4559-9A97-AECC40E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303120" y="2952720"/>
            <a:ext cx="192744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AA2-2A22-4019-BB27-242D2ECC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9403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9096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90960" y="605664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5844-965E-45B9-90A3-A8A30890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9096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3120" y="6056640"/>
            <a:ext cx="19274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629B-EFA7-4899-BF53-51BD9ED0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19274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3120" y="6056640"/>
            <a:ext cx="19274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92B3-7708-4B79-B77F-B549A472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29096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3120" y="605664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290960" y="605664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7D3A-F213-4804-A6A6-F8D92532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54720" y="295272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606320" y="295272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3120" y="605664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954720" y="605664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1606320" y="6056640"/>
            <a:ext cx="6202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5507-8BAB-4FBB-BF1D-F6037EB3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192744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E67-B04B-497D-823D-D2A1FE41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9403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90960" y="2952720"/>
            <a:ext cx="9403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414-6DBA-470B-967E-79B95150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1FB-5158-47BA-B89B-F78815C4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303120" y="604800"/>
            <a:ext cx="1927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597-66C5-44E1-BF83-961AEDC2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0960" y="2952720"/>
            <a:ext cx="9403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3120" y="605664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770-2230-4787-A55E-FCF885CA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9403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096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0960" y="605664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CA0-B0E3-42FF-BACA-DB3526E5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3120" y="150840"/>
            <a:ext cx="1927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312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0960" y="2952720"/>
            <a:ext cx="9403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3120" y="6056640"/>
            <a:ext cx="19274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C69-EE35-44D4-BD6F-DD64280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3120" y="604800"/>
            <a:ext cx="192744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3120" y="2952720"/>
            <a:ext cx="192744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378720" indent="-14544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582840" indent="-1162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815760" indent="-1162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049040" indent="-1162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1049040" indent="-1162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1049040" indent="-1162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9023400"/>
            <a:ext cx="4730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09360" y="9023400"/>
            <a:ext cx="7189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60400" y="9023400"/>
            <a:ext cx="471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E3E4-7F9F-48BB-AD6A-0232AEE2996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7800" y="453600"/>
            <a:ext cx="210960" cy="9448560"/>
            <a:chOff x="37800" y="453600"/>
            <a:chExt cx="210960" cy="9448560"/>
          </a:xfrm>
        </p:grpSpPr>
        <p:sp>
          <p:nvSpPr>
            <p:cNvPr id="6" name=""/>
            <p:cNvSpPr/>
            <p:nvPr/>
          </p:nvSpPr>
          <p:spPr>
            <a:xfrm flipH="1" rot="5400000">
              <a:off x="-503280" y="507708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-503280" y="643860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-503640" y="779796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-496800" y="9157320"/>
              <a:ext cx="1279080" cy="210600"/>
            </a:xfrm>
            <a:prstGeom prst="parallelogram">
              <a:avLst>
                <a:gd name="adj" fmla="val 32161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-503280" y="99468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-503640" y="234720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-503640" y="371304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11240" y="0"/>
            <a:ext cx="66600" cy="990288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132480" y="2459160"/>
            <a:ext cx="2135160" cy="366480"/>
          </a:xfrm>
          <a:custGeom>
            <a:avLst/>
            <a:gdLst>
              <a:gd name="textAreaLeft" fmla="*/ -360 w 2135160"/>
              <a:gd name="textAreaRight" fmla="*/ 2135160 w 21351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15920" y="2463840"/>
            <a:ext cx="7128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5920" y="2762280"/>
            <a:ext cx="46080" cy="67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286000" y="2421000"/>
            <a:ext cx="7452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12680" y="2513160"/>
            <a:ext cx="2173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8160" y="0"/>
            <a:ext cx="210960" cy="9902520"/>
            <a:chOff x="38160" y="0"/>
            <a:chExt cx="210960" cy="9902520"/>
          </a:xfrm>
        </p:grpSpPr>
        <p:sp>
          <p:nvSpPr>
            <p:cNvPr id="20" name=""/>
            <p:cNvSpPr/>
            <p:nvPr/>
          </p:nvSpPr>
          <p:spPr>
            <a:xfrm rot="16200000">
              <a:off x="-502200" y="5758200"/>
              <a:ext cx="1292760" cy="210240"/>
            </a:xfrm>
            <a:prstGeom prst="parallelogram">
              <a:avLst>
                <a:gd name="adj" fmla="val 32561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-502920" y="7120800"/>
              <a:ext cx="1294560" cy="210240"/>
            </a:xfrm>
            <a:prstGeom prst="parallelogram">
              <a:avLst>
                <a:gd name="adj" fmla="val 32606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-502920" y="8480880"/>
              <a:ext cx="1292760" cy="210240"/>
            </a:xfrm>
            <a:prstGeom prst="parallelogram">
              <a:avLst>
                <a:gd name="adj" fmla="val 32561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-502920" y="1670040"/>
              <a:ext cx="1294560" cy="210240"/>
            </a:xfrm>
            <a:prstGeom prst="parallelogram">
              <a:avLst>
                <a:gd name="adj" fmla="val 32606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-502920" y="3030120"/>
              <a:ext cx="1292760" cy="210240"/>
            </a:xfrm>
            <a:prstGeom prst="parallelogram">
              <a:avLst>
                <a:gd name="adj" fmla="val 32561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-502920" y="4395960"/>
              <a:ext cx="1292760" cy="210240"/>
            </a:xfrm>
            <a:prstGeom prst="parallelogram">
              <a:avLst>
                <a:gd name="adj" fmla="val 32561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9240" y="0"/>
              <a:ext cx="209880" cy="10659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160" y="9306360"/>
              <a:ext cx="180360" cy="5961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2268360" cy="9902160"/>
            <a:chOff x="0" y="0"/>
            <a:chExt cx="2268360" cy="990216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2268360" cy="122616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7213320"/>
              <a:ext cx="2268360" cy="268884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760" y="2200320"/>
            <a:ext cx="19288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20760" y="9023400"/>
            <a:ext cx="4730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925200" y="9023400"/>
            <a:ext cx="7174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1778040" y="9023400"/>
            <a:ext cx="471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ADB7-23FD-4695-8741-983169E2893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7800" y="453600"/>
            <a:ext cx="210960" cy="9448560"/>
            <a:chOff x="37800" y="453600"/>
            <a:chExt cx="210960" cy="9448560"/>
          </a:xfrm>
        </p:grpSpPr>
        <p:sp>
          <p:nvSpPr>
            <p:cNvPr id="72" name=""/>
            <p:cNvSpPr/>
            <p:nvPr/>
          </p:nvSpPr>
          <p:spPr>
            <a:xfrm flipH="1" rot="5400000">
              <a:off x="-503280" y="507708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-503280" y="643860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-503640" y="779796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-496800" y="9157320"/>
              <a:ext cx="1279080" cy="210600"/>
            </a:xfrm>
            <a:prstGeom prst="parallelogram">
              <a:avLst>
                <a:gd name="adj" fmla="val 32161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-503280" y="99468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-503640" y="234720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-503640" y="3713040"/>
              <a:ext cx="1292760" cy="210600"/>
            </a:xfrm>
            <a:prstGeom prst="parallelogram">
              <a:avLst>
                <a:gd name="adj" fmla="val 3250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11240" y="0"/>
            <a:ext cx="66600" cy="990288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2480" y="3924360"/>
            <a:ext cx="2135160" cy="366480"/>
          </a:xfrm>
          <a:custGeom>
            <a:avLst/>
            <a:gdLst>
              <a:gd name="textAreaLeft" fmla="*/ -360 w 2135160"/>
              <a:gd name="textAreaRight" fmla="*/ 2135160 w 21351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200" y="3894120"/>
            <a:ext cx="7488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5920" y="3898800"/>
            <a:ext cx="3960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2480" y="3894120"/>
            <a:ext cx="7452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0600" y="3986280"/>
            <a:ext cx="217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160" y="0"/>
            <a:ext cx="210960" cy="9902520"/>
            <a:chOff x="38160" y="0"/>
            <a:chExt cx="210960" cy="9902520"/>
          </a:xfrm>
        </p:grpSpPr>
        <p:sp>
          <p:nvSpPr>
            <p:cNvPr id="86" name=""/>
            <p:cNvSpPr/>
            <p:nvPr/>
          </p:nvSpPr>
          <p:spPr>
            <a:xfrm rot="16200000">
              <a:off x="-502200" y="5758200"/>
              <a:ext cx="1292760" cy="210240"/>
            </a:xfrm>
            <a:prstGeom prst="parallelogram">
              <a:avLst>
                <a:gd name="adj" fmla="val 32561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-502920" y="7120800"/>
              <a:ext cx="1294560" cy="210240"/>
            </a:xfrm>
            <a:prstGeom prst="parallelogram">
              <a:avLst>
                <a:gd name="adj" fmla="val 32606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-502920" y="8480880"/>
              <a:ext cx="1292760" cy="210240"/>
            </a:xfrm>
            <a:prstGeom prst="parallelogram">
              <a:avLst>
                <a:gd name="adj" fmla="val 32561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-502920" y="1670040"/>
              <a:ext cx="1294560" cy="210240"/>
            </a:xfrm>
            <a:prstGeom prst="parallelogram">
              <a:avLst>
                <a:gd name="adj" fmla="val 32606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-502920" y="3030120"/>
              <a:ext cx="1292760" cy="210240"/>
            </a:xfrm>
            <a:prstGeom prst="parallelogram">
              <a:avLst>
                <a:gd name="adj" fmla="val 32561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-502920" y="4395960"/>
              <a:ext cx="1292760" cy="210240"/>
            </a:xfrm>
            <a:prstGeom prst="parallelogram">
              <a:avLst>
                <a:gd name="adj" fmla="val 32561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240" y="0"/>
              <a:ext cx="209880" cy="10659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160" y="9306360"/>
              <a:ext cx="180360" cy="5961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9128160"/>
            <a:ext cx="2268360" cy="774720"/>
          </a:xfrm>
          <a:prstGeom prst="rect">
            <a:avLst/>
          </a:prstGeom>
          <a:gradFill rotWithShape="0">
            <a:gsLst>
              <a:gs pos="0">
                <a:srgbClr val="159b18"/>
              </a:gs>
              <a:gs pos="100000">
                <a:srgbClr val="0947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264520"/>
            <a:ext cx="2268360" cy="93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7160" y="2492280"/>
            <a:ext cx="179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Arial"/>
              </a:rPr>
              <a:t>EXPEDIENT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Arial"/>
              </a:rPr>
              <a:t>TECN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7160" y="9407520"/>
            <a:ext cx="18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[ORIGINA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000" y="8455680"/>
            <a:ext cx="179856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2"/>
                </a:solidFill>
                <a:latin typeface="Arial Black"/>
              </a:rPr>
              <a:t>TOMO I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2"/>
                </a:solidFill>
                <a:latin typeface="Arial Black"/>
              </a:rPr>
              <a:t>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439640" y="5186160"/>
            <a:ext cx="5256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b650d"/>
                </a:solidFill>
                <a:latin typeface="Arial"/>
              </a:rPr>
              <a:t>AMPLIACION, REHABILITACION Y EQUIPAMIENTO DE LA I.E. Nº 5099 “RICARDO PALMA – CALLAO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2268360" cy="2143080"/>
          </a:xfrm>
          <a:prstGeom prst="rect">
            <a:avLst/>
          </a:prstGeom>
          <a:gradFill rotWithShape="0">
            <a:gsLst>
              <a:gs pos="0">
                <a:srgbClr val="159b18"/>
              </a:gs>
              <a:gs pos="100000">
                <a:srgbClr val="0947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480" y="1612800"/>
            <a:ext cx="211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Md BT"/>
              </a:rPr>
              <a:t>GOBIERNO  REGION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Futura Md BT"/>
              </a:rPr>
              <a:t> DEL  CALLA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351160"/>
            <a:ext cx="2263680" cy="7920"/>
          </a:xfrm>
          <a:prstGeom prst="line">
            <a:avLst/>
          </a:prstGeom>
          <a:ln w="127080">
            <a:solidFill>
              <a:srgbClr val="159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9680"/>
            <a:ext cx="2262240" cy="504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640"/>
            <a:ext cx="2271600" cy="9902520"/>
          </a:xfrm>
          <a:prstGeom prst="rect">
            <a:avLst/>
          </a:prstGeom>
          <a:noFill/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19280" y="106200"/>
            <a:ext cx="831600" cy="153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4:28:45Z</dcterms:created>
  <dc:creator>ULISES BARRIONUEVO JARA</dc:creator>
  <dc:description/>
  <dc:language>en-US</dc:language>
  <cp:lastModifiedBy>winciso</cp:lastModifiedBy>
  <cp:lastPrinted>2000-02-04T17:24:34Z</cp:lastPrinted>
  <dcterms:modified xsi:type="dcterms:W3CDTF">2007-06-26T19:25:02Z</dcterms:modified>
  <cp:revision>43</cp:revision>
  <dc:subject/>
  <dc:title>Sin título de diapositiva</dc:title>
</cp:coreProperties>
</file>