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30E-7B6A-4619-A305-2A07F56C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B2B-ED7E-4484-9742-9D0A1D3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265-B2E9-42D3-BD65-AAF81C24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CE4-04F0-4510-BD8A-B5330BA8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545-E7A8-487E-8208-7715653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82B-39AC-4786-9C23-A65AD2B8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764-51A1-4A10-9372-0110F258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C81-F4FA-401B-9A83-54AEA69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D84-8C20-491E-8465-D7D0A70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BCD-0957-4BCA-9B19-E9CDC3C9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E9C-1087-42D1-8C49-ADBF150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FBB-FDCD-4BEC-8D08-03531BE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9823-D766-4DAA-9B73-644D74F5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74960" y="1297080"/>
            <a:ext cx="1104840" cy="1711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28640" y="63216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Arial"/>
              </a:rPr>
              <a:t>ESTUDIO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6969240"/>
            <a:ext cx="5257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650d"/>
                </a:solidFill>
                <a:latin typeface="Arial Black"/>
              </a:rPr>
              <a:t>AMPLIACION, REHABILITACION Y EQUIPAMIENTO DE LA I.E. Nº 5099 “RICARDO PALMA – CALLA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650d"/>
                </a:solidFill>
                <a:latin typeface="Arial Black"/>
              </a:rPr>
              <a:t>TOM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8481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52640" y="3440160"/>
            <a:ext cx="4752720" cy="2360520"/>
            <a:chOff x="1052640" y="3440160"/>
            <a:chExt cx="4752720" cy="23605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052640" y="3440160"/>
              <a:ext cx="3168360" cy="235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4292640" y="3440160"/>
              <a:ext cx="1512720" cy="113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4292640" y="4665600"/>
              <a:ext cx="1512720" cy="113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4960" y="1297080"/>
            <a:ext cx="1104840" cy="171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628640" y="63216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Arial"/>
              </a:rPr>
              <a:t>ESTUDIO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7920" y="6969240"/>
            <a:ext cx="5257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650d"/>
                </a:solidFill>
                <a:latin typeface="Arial Black"/>
              </a:rPr>
              <a:t>AMPLIACION, REHABILITACION Y EQUIPAMIENTO DE LA I.E. Nº 5099 “RICARDO PALMA – CALLA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650d"/>
                </a:solidFill>
                <a:latin typeface="Arial Black"/>
              </a:rPr>
              <a:t>TOM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73360" y="8481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52640" y="3440160"/>
            <a:ext cx="4752720" cy="2360520"/>
            <a:chOff x="1052640" y="3440160"/>
            <a:chExt cx="4752720" cy="23605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052640" y="3440160"/>
              <a:ext cx="3168360" cy="235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4292640" y="3440160"/>
              <a:ext cx="1512720" cy="113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4292640" y="4665600"/>
              <a:ext cx="1512720" cy="113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74960" y="1297080"/>
            <a:ext cx="1104840" cy="171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628640" y="63216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Arial"/>
              </a:rPr>
              <a:t>ESTUDIO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920" y="6969240"/>
            <a:ext cx="5257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650d"/>
                </a:solidFill>
                <a:latin typeface="Arial Black"/>
              </a:rPr>
              <a:t>AMPLIACION, REHABILITACION Y EQUIPAMIENTO DE LA I.E. Nº 5099 “RICARDO PALMA – CALLA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650d"/>
                </a:solidFill>
                <a:latin typeface="Arial Black"/>
              </a:rPr>
              <a:t>TOMO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73360" y="8481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052640" y="3440160"/>
            <a:ext cx="4752720" cy="2360520"/>
            <a:chOff x="1052640" y="3440160"/>
            <a:chExt cx="4752720" cy="236052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052640" y="3440160"/>
              <a:ext cx="3168360" cy="235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4292640" y="3440160"/>
              <a:ext cx="1512720" cy="113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292640" y="4665600"/>
              <a:ext cx="1512720" cy="113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1:15:05Z</dcterms:created>
  <dc:creator>fhernandez</dc:creator>
  <dc:description/>
  <dc:language>en-US</dc:language>
  <cp:lastModifiedBy>winciso</cp:lastModifiedBy>
  <dcterms:modified xsi:type="dcterms:W3CDTF">2007-06-27T14:18:29Z</dcterms:modified>
  <cp:revision>10</cp:revision>
  <dc:subject/>
  <dc:title>Diapositiva 1</dc:title>
</cp:coreProperties>
</file>