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907588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369E-BD52-46B4-BB1E-2EFA22E90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5ECB-A252-49DF-B27C-CAA61ED1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526E-878B-4137-8171-40588380E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9C07-296B-4B77-A693-1DBB5D383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6482-DEAE-4E7F-B4DE-C249C01F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B1AC-0F7B-44DE-92D2-2A687F2A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48B1-DD87-4945-A3A1-2A6FA9CB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887A-2AFB-4A26-8D83-9C5C6CBB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F74E-0D41-4FF4-98DC-6EE76D81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0BD3-A42C-4517-897F-5628CB3C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5B5B-B000-43F8-A542-EA1E58DC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9744-4F1C-455B-A2D7-C07B9C64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5294-3C83-4C1E-A0AF-75CF2F32E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-15840"/>
            <a:ext cx="6858000" cy="792000"/>
          </a:xfrm>
          <a:prstGeom prst="rect">
            <a:avLst/>
          </a:prstGeom>
          <a:gradFill rotWithShape="0">
            <a:gsLst>
              <a:gs pos="0">
                <a:srgbClr val="042f05"/>
              </a:gs>
              <a:gs pos="100000">
                <a:srgbClr val="0e881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74960" y="1297080"/>
            <a:ext cx="1104840" cy="1711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692280" y="200160"/>
            <a:ext cx="5479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Gobierno Regional del Callao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628640" y="6321600"/>
            <a:ext cx="36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b650d"/>
                </a:solidFill>
                <a:latin typeface="Arial"/>
              </a:rPr>
              <a:t>ESTUDIO DEFINI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7920" y="6969240"/>
            <a:ext cx="525780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b650d"/>
                </a:solidFill>
                <a:latin typeface="Arial Black"/>
              </a:rPr>
              <a:t>AMPLIACION, REHABILITACION Y EQUIPAMIENTO DE LA I.E. Nº 5099 “RICARDO PALMA – CALLAO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650d"/>
                </a:solidFill>
                <a:latin typeface="Arial Black"/>
              </a:rPr>
              <a:t>TOMO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73360" y="84819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b650d"/>
                </a:solidFill>
                <a:latin typeface="Futura Md BT"/>
              </a:rPr>
              <a:t>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052640" y="3440160"/>
            <a:ext cx="4752720" cy="2360520"/>
            <a:chOff x="1052640" y="3440160"/>
            <a:chExt cx="4752720" cy="236052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1052640" y="3440160"/>
              <a:ext cx="3168360" cy="23572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49" name="" descr=""/>
            <p:cNvPicPr/>
            <p:nvPr/>
          </p:nvPicPr>
          <p:blipFill>
            <a:blip r:embed="rId3"/>
            <a:stretch/>
          </p:blipFill>
          <p:spPr>
            <a:xfrm>
              <a:off x="4292640" y="3440160"/>
              <a:ext cx="1512720" cy="11332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50" name="" descr=""/>
            <p:cNvPicPr/>
            <p:nvPr/>
          </p:nvPicPr>
          <p:blipFill>
            <a:blip r:embed="rId4"/>
            <a:stretch/>
          </p:blipFill>
          <p:spPr>
            <a:xfrm>
              <a:off x="4292640" y="4665600"/>
              <a:ext cx="1512720" cy="11350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-15840"/>
            <a:ext cx="6858000" cy="792000"/>
          </a:xfrm>
          <a:prstGeom prst="rect">
            <a:avLst/>
          </a:prstGeom>
          <a:gradFill rotWithShape="0">
            <a:gsLst>
              <a:gs pos="0">
                <a:srgbClr val="042f05"/>
              </a:gs>
              <a:gs pos="100000">
                <a:srgbClr val="0e881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874960" y="1297080"/>
            <a:ext cx="1104840" cy="1711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692280" y="200160"/>
            <a:ext cx="5479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Gobierno Regional del Callao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1628640" y="6321600"/>
            <a:ext cx="36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b650d"/>
                </a:solidFill>
                <a:latin typeface="Arial"/>
              </a:rPr>
              <a:t>ESTUDIO DEFINI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07920" y="6969240"/>
            <a:ext cx="525780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b650d"/>
                </a:solidFill>
                <a:latin typeface="Arial Black"/>
              </a:rPr>
              <a:t>AMPLIACION, REHABILITACION Y EQUIPAMIENTO DE LA I.E. Nº 5099 “RICARDO PALMA – CALLAO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650d"/>
                </a:solidFill>
                <a:latin typeface="Arial Black"/>
              </a:rPr>
              <a:t>TOMO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73360" y="84819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b650d"/>
                </a:solidFill>
                <a:latin typeface="Futura Md BT"/>
              </a:rPr>
              <a:t>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052640" y="3440160"/>
            <a:ext cx="4752720" cy="2360520"/>
            <a:chOff x="1052640" y="3440160"/>
            <a:chExt cx="4752720" cy="2360520"/>
          </a:xfrm>
        </p:grpSpPr>
        <p:pic>
          <p:nvPicPr>
            <p:cNvPr id="58" name="" descr=""/>
            <p:cNvPicPr/>
            <p:nvPr/>
          </p:nvPicPr>
          <p:blipFill>
            <a:blip r:embed="rId2"/>
            <a:stretch/>
          </p:blipFill>
          <p:spPr>
            <a:xfrm>
              <a:off x="1052640" y="3440160"/>
              <a:ext cx="3168360" cy="23572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4292640" y="3440160"/>
              <a:ext cx="1512720" cy="11332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60" name="" descr=""/>
            <p:cNvPicPr/>
            <p:nvPr/>
          </p:nvPicPr>
          <p:blipFill>
            <a:blip r:embed="rId4"/>
            <a:stretch/>
          </p:blipFill>
          <p:spPr>
            <a:xfrm>
              <a:off x="4292640" y="4665600"/>
              <a:ext cx="1512720" cy="11350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-15840"/>
            <a:ext cx="6858000" cy="792000"/>
          </a:xfrm>
          <a:prstGeom prst="rect">
            <a:avLst/>
          </a:prstGeom>
          <a:gradFill rotWithShape="0">
            <a:gsLst>
              <a:gs pos="0">
                <a:srgbClr val="042f05"/>
              </a:gs>
              <a:gs pos="100000">
                <a:srgbClr val="0e881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874960" y="1297080"/>
            <a:ext cx="1104840" cy="1711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692280" y="200160"/>
            <a:ext cx="5479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Gobierno Regional del Callao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4" name=""/>
          <p:cNvSpPr/>
          <p:nvPr/>
        </p:nvSpPr>
        <p:spPr>
          <a:xfrm>
            <a:off x="1628640" y="6321600"/>
            <a:ext cx="36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b650d"/>
                </a:solidFill>
                <a:latin typeface="Arial"/>
              </a:rPr>
              <a:t>ESTUDIO DEFINI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07920" y="6969240"/>
            <a:ext cx="525780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b650d"/>
                </a:solidFill>
                <a:latin typeface="Arial Black"/>
              </a:rPr>
              <a:t>AMPLIACION, REHABILITACION Y EQUIPAMIENTO DE LA I.E. Nº 5099 “RICARDO PALMA – CALLAO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650d"/>
                </a:solidFill>
                <a:latin typeface="Arial Black"/>
              </a:rPr>
              <a:t>TOMO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73360" y="84819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b650d"/>
                </a:solidFill>
                <a:latin typeface="Futura Md BT"/>
              </a:rPr>
              <a:t>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052640" y="3440160"/>
            <a:ext cx="4752720" cy="2360520"/>
            <a:chOff x="1052640" y="3440160"/>
            <a:chExt cx="4752720" cy="2360520"/>
          </a:xfrm>
        </p:grpSpPr>
        <p:pic>
          <p:nvPicPr>
            <p:cNvPr id="68" name="" descr=""/>
            <p:cNvPicPr/>
            <p:nvPr/>
          </p:nvPicPr>
          <p:blipFill>
            <a:blip r:embed="rId2"/>
            <a:stretch/>
          </p:blipFill>
          <p:spPr>
            <a:xfrm>
              <a:off x="1052640" y="3440160"/>
              <a:ext cx="3168360" cy="23572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69" name="" descr=""/>
            <p:cNvPicPr/>
            <p:nvPr/>
          </p:nvPicPr>
          <p:blipFill>
            <a:blip r:embed="rId3"/>
            <a:stretch/>
          </p:blipFill>
          <p:spPr>
            <a:xfrm>
              <a:off x="4292640" y="3440160"/>
              <a:ext cx="1512720" cy="11332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70" name="" descr=""/>
            <p:cNvPicPr/>
            <p:nvPr/>
          </p:nvPicPr>
          <p:blipFill>
            <a:blip r:embed="rId4"/>
            <a:stretch/>
          </p:blipFill>
          <p:spPr>
            <a:xfrm>
              <a:off x="4292640" y="4665600"/>
              <a:ext cx="1512720" cy="11350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21:15:05Z</dcterms:created>
  <dc:creator>fhernandez</dc:creator>
  <dc:description/>
  <dc:language>en-US</dc:language>
  <cp:lastModifiedBy>winciso</cp:lastModifiedBy>
  <dcterms:modified xsi:type="dcterms:W3CDTF">2007-06-27T14:18:29Z</dcterms:modified>
  <cp:revision>10</cp:revision>
  <dc:subject/>
  <dc:title>Diapositiva 1</dc:title>
</cp:coreProperties>
</file>