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728788" cy="9902825"/>
  <p:notesSz cx="6872288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B511-A2FF-416C-B1D6-46AF9EF5D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30040" y="-519480"/>
            <a:ext cx="147024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30040" y="2952720"/>
            <a:ext cx="147024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230040" y="6056640"/>
            <a:ext cx="147024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549F-F476-411E-A6C7-E58130770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30040" y="-519480"/>
            <a:ext cx="147024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30040" y="2952720"/>
            <a:ext cx="71712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983520" y="2952720"/>
            <a:ext cx="71712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230040" y="6056640"/>
            <a:ext cx="71712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983520" y="6056640"/>
            <a:ext cx="71712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2189-0EB5-4B1E-8634-7D982AB31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30040" y="-519480"/>
            <a:ext cx="147024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30040" y="2952720"/>
            <a:ext cx="47304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727200" y="2952720"/>
            <a:ext cx="47304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24360" y="2952720"/>
            <a:ext cx="47304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230040" y="6056640"/>
            <a:ext cx="47304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727200" y="6056640"/>
            <a:ext cx="47304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1224360" y="6056640"/>
            <a:ext cx="47304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ACF4-5851-4350-85AB-98A07AF5A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CBAC8-0B7E-4F14-BC9C-AF3D64CC2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-519480"/>
            <a:ext cx="147024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230040" y="2952720"/>
            <a:ext cx="1470240" cy="59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02A4E-DB17-4AB8-AE0A-CF932BA23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-519480"/>
            <a:ext cx="147024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30040" y="2952720"/>
            <a:ext cx="1470240" cy="59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A6477-20CF-40B5-AB7E-F28BE5181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30040" y="-519480"/>
            <a:ext cx="147024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30040" y="2952720"/>
            <a:ext cx="717120" cy="59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983520" y="2952720"/>
            <a:ext cx="717120" cy="59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6E5E2-7310-44C3-BE87-9CB0E0E15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0040" y="-519480"/>
            <a:ext cx="147024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84B86-D585-448C-B9F0-D73B541CE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230040" y="604800"/>
            <a:ext cx="147024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ABA92-BAC5-4D52-80B7-0E545C09C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30040" y="-519480"/>
            <a:ext cx="147024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30040" y="2952720"/>
            <a:ext cx="71712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983520" y="2952720"/>
            <a:ext cx="717120" cy="59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230040" y="6056640"/>
            <a:ext cx="71712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C4132-56D2-4CBC-9D71-B0F38F9E4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-519480"/>
            <a:ext cx="147024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230040" y="2952720"/>
            <a:ext cx="1470240" cy="59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67DB-7AB0-4BDE-8A8A-0F1491548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30040" y="-519480"/>
            <a:ext cx="147024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30040" y="2952720"/>
            <a:ext cx="717120" cy="59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983520" y="2952720"/>
            <a:ext cx="71712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983520" y="6056640"/>
            <a:ext cx="71712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A3BA4-F124-4690-A1A9-2D6E135AB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-519480"/>
            <a:ext cx="147024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30040" y="2952720"/>
            <a:ext cx="71712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983520" y="2952720"/>
            <a:ext cx="71712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30040" y="6056640"/>
            <a:ext cx="147024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7DFC8-3380-454F-A406-CC57B6576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30040" y="-519480"/>
            <a:ext cx="147024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30040" y="2952720"/>
            <a:ext cx="147024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230040" y="6056640"/>
            <a:ext cx="147024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6D191-F6FC-4FE3-B422-C9DD9A30A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30040" y="-519480"/>
            <a:ext cx="147024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30040" y="2952720"/>
            <a:ext cx="71712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983520" y="2952720"/>
            <a:ext cx="71712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230040" y="6056640"/>
            <a:ext cx="71712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983520" y="6056640"/>
            <a:ext cx="71712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D4060-5EB2-4AD9-9E9F-4FBD87B93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30040" y="-519480"/>
            <a:ext cx="147024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30040" y="2952720"/>
            <a:ext cx="47304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727200" y="2952720"/>
            <a:ext cx="47304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24360" y="2952720"/>
            <a:ext cx="47304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230040" y="6056640"/>
            <a:ext cx="47304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727200" y="6056640"/>
            <a:ext cx="47304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1224360" y="6056640"/>
            <a:ext cx="47304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974EF-9323-46B3-8D89-DB56B54F6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30040" y="-519480"/>
            <a:ext cx="147024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30040" y="2952720"/>
            <a:ext cx="1470240" cy="59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A32E-2ECF-4C27-9D2F-CDF71B38C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30040" y="-519480"/>
            <a:ext cx="147024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30040" y="2952720"/>
            <a:ext cx="717120" cy="59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83520" y="2952720"/>
            <a:ext cx="717120" cy="59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F68E-9093-4AD4-ADBA-14CE8DCDD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30040" y="-519480"/>
            <a:ext cx="147024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D9A8-BA80-467A-986E-493766063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230040" y="604800"/>
            <a:ext cx="147024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E484-7909-4294-AB3E-86A767F80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30040" y="-519480"/>
            <a:ext cx="147024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30040" y="2952720"/>
            <a:ext cx="71712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983520" y="2952720"/>
            <a:ext cx="717120" cy="59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230040" y="6056640"/>
            <a:ext cx="71712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9EC6-1279-48DA-98F3-EF4BD1706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30040" y="-519480"/>
            <a:ext cx="147024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30040" y="2952720"/>
            <a:ext cx="717120" cy="59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983520" y="2952720"/>
            <a:ext cx="71712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983520" y="6056640"/>
            <a:ext cx="71712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821E-2B3A-4B7B-BAC6-BD887CD65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30040" y="-519480"/>
            <a:ext cx="147024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30040" y="2952720"/>
            <a:ext cx="71712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983520" y="2952720"/>
            <a:ext cx="71712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230040" y="6056640"/>
            <a:ext cx="1470240" cy="283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754E-CECB-4512-99E3-9E816C2E1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604800"/>
            <a:ext cx="147024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30040" y="2952720"/>
            <a:ext cx="1470240" cy="59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1000"/>
          </a:bodyPr>
          <a:p>
            <a:pPr marL="140400" indent="-140400">
              <a:spcBef>
                <a:spcPts val="799"/>
              </a:spcBef>
              <a:buClr>
                <a:srgbClr val="99ffcc"/>
              </a:buClr>
              <a:buSzPct val="75000"/>
              <a:buFont typeface="Monotype Sorts" charset="2"/>
              <a:buChar char="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1" marL="304560" indent="-117000">
              <a:spcBef>
                <a:spcPts val="799"/>
              </a:spcBef>
              <a:buClr>
                <a:srgbClr val="01b0ff"/>
              </a:buClr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2" marL="468360" indent="-9360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3" marL="655920" indent="-93600">
              <a:spcBef>
                <a:spcPts val="799"/>
              </a:spcBef>
              <a:buClr>
                <a:srgbClr val="ffffff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4" marL="843480" indent="-9360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5" marL="843480" indent="-9360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  <a:p>
            <a:pPr lvl="6" marL="843480" indent="-93600">
              <a:spcBef>
                <a:spcPts val="799"/>
              </a:spcBef>
              <a:buClr>
                <a:srgbClr val="ffffff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31480" y="9023400"/>
            <a:ext cx="3618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93720" y="9023400"/>
            <a:ext cx="54936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341000" y="9023400"/>
            <a:ext cx="36036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A76F7-A613-49A6-B800-46BE17962C53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8080" y="453600"/>
            <a:ext cx="162360" cy="9448560"/>
            <a:chOff x="28080" y="453600"/>
            <a:chExt cx="162360" cy="9448560"/>
          </a:xfrm>
        </p:grpSpPr>
        <p:sp>
          <p:nvSpPr>
            <p:cNvPr id="6" name=""/>
            <p:cNvSpPr/>
            <p:nvPr/>
          </p:nvSpPr>
          <p:spPr>
            <a:xfrm flipH="1" rot="5400000">
              <a:off x="-537840" y="5101560"/>
              <a:ext cx="1292760" cy="161640"/>
            </a:xfrm>
            <a:prstGeom prst="parallelogram">
              <a:avLst>
                <a:gd name="adj" fmla="val 423512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-537840" y="6463080"/>
              <a:ext cx="1292760" cy="161640"/>
            </a:xfrm>
            <a:prstGeom prst="parallelogram">
              <a:avLst>
                <a:gd name="adj" fmla="val 423512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rot="5400000">
              <a:off x="-536760" y="7822080"/>
              <a:ext cx="1292760" cy="162000"/>
            </a:xfrm>
            <a:prstGeom prst="parallelogram">
              <a:avLst>
                <a:gd name="adj" fmla="val 42257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 rot="5400000">
              <a:off x="-529920" y="9181440"/>
              <a:ext cx="1279080" cy="162000"/>
            </a:xfrm>
            <a:prstGeom prst="parallelogram">
              <a:avLst>
                <a:gd name="adj" fmla="val 418099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5400000">
              <a:off x="-537840" y="1019160"/>
              <a:ext cx="1292760" cy="161640"/>
            </a:xfrm>
            <a:prstGeom prst="parallelogram">
              <a:avLst>
                <a:gd name="adj" fmla="val 423512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rot="5400000">
              <a:off x="-536760" y="2371320"/>
              <a:ext cx="1292760" cy="162000"/>
            </a:xfrm>
            <a:prstGeom prst="parallelogram">
              <a:avLst>
                <a:gd name="adj" fmla="val 42257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rot="5400000">
              <a:off x="-536760" y="3737160"/>
              <a:ext cx="1292760" cy="162000"/>
            </a:xfrm>
            <a:prstGeom prst="parallelogram">
              <a:avLst>
                <a:gd name="adj" fmla="val 42257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" name=""/>
          <p:cNvSpPr/>
          <p:nvPr/>
        </p:nvSpPr>
        <p:spPr>
          <a:xfrm>
            <a:off x="84240" y="0"/>
            <a:ext cx="50760" cy="990288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101520" y="2459160"/>
            <a:ext cx="1627200" cy="366480"/>
          </a:xfrm>
          <a:custGeom>
            <a:avLst/>
            <a:gdLst>
              <a:gd name="textAreaLeft" fmla="*/ 360 w 1627200"/>
              <a:gd name="textAreaRight" fmla="*/ 1627920 w 1627200"/>
              <a:gd name="textAreaTop" fmla="*/ 0 h 366480"/>
              <a:gd name="textAreaBottom" fmla="*/ 366840 h 36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88920" y="2463840"/>
            <a:ext cx="52200" cy="39672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88920" y="2762280"/>
            <a:ext cx="34920" cy="67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1743120" y="2421000"/>
            <a:ext cx="55440" cy="39672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85680" y="2513160"/>
            <a:ext cx="16574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28440" y="0"/>
            <a:ext cx="162000" cy="9902520"/>
            <a:chOff x="28440" y="0"/>
            <a:chExt cx="162000" cy="9902520"/>
          </a:xfrm>
        </p:grpSpPr>
        <p:sp>
          <p:nvSpPr>
            <p:cNvPr id="20" name=""/>
            <p:cNvSpPr/>
            <p:nvPr/>
          </p:nvSpPr>
          <p:spPr>
            <a:xfrm rot="16200000">
              <a:off x="-536400" y="5782680"/>
              <a:ext cx="1292760" cy="161640"/>
            </a:xfrm>
            <a:prstGeom prst="parallelogram">
              <a:avLst>
                <a:gd name="adj" fmla="val 423512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6200000">
              <a:off x="-537480" y="7144920"/>
              <a:ext cx="1294560" cy="161640"/>
            </a:xfrm>
            <a:prstGeom prst="parallelogram">
              <a:avLst>
                <a:gd name="adj" fmla="val 42410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6200000">
              <a:off x="-536760" y="8505360"/>
              <a:ext cx="1292760" cy="161640"/>
            </a:xfrm>
            <a:prstGeom prst="parallelogram">
              <a:avLst>
                <a:gd name="adj" fmla="val 423512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6200000">
              <a:off x="-537480" y="1694160"/>
              <a:ext cx="1294560" cy="161640"/>
            </a:xfrm>
            <a:prstGeom prst="parallelogram">
              <a:avLst>
                <a:gd name="adj" fmla="val 42410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6200000">
              <a:off x="-536760" y="3054600"/>
              <a:ext cx="1292760" cy="161640"/>
            </a:xfrm>
            <a:prstGeom prst="parallelogram">
              <a:avLst>
                <a:gd name="adj" fmla="val 423512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6200000">
              <a:off x="-536760" y="4420440"/>
              <a:ext cx="1292760" cy="161640"/>
            </a:xfrm>
            <a:prstGeom prst="parallelogram">
              <a:avLst>
                <a:gd name="adj" fmla="val 423512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9160" y="0"/>
              <a:ext cx="161280" cy="10659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8440" y="9306360"/>
              <a:ext cx="138600" cy="59616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1728720" cy="9902160"/>
            <a:chOff x="0" y="0"/>
            <a:chExt cx="1728720" cy="9902160"/>
          </a:xfrm>
        </p:grpSpPr>
        <p:sp>
          <p:nvSpPr>
            <p:cNvPr id="65" name=""/>
            <p:cNvSpPr/>
            <p:nvPr/>
          </p:nvSpPr>
          <p:spPr>
            <a:xfrm>
              <a:off x="0" y="0"/>
              <a:ext cx="1728720" cy="122616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7213320"/>
              <a:ext cx="1728720" cy="268884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6240" y="2200320"/>
            <a:ext cx="1466640" cy="16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246240" y="9023400"/>
            <a:ext cx="35856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705960" y="9023400"/>
            <a:ext cx="544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1355760" y="9023400"/>
            <a:ext cx="35712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B5677-F8F8-4949-9458-FACE1817EE0C}" type="slidenum"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28080" y="453600"/>
            <a:ext cx="162360" cy="9448560"/>
            <a:chOff x="28080" y="453600"/>
            <a:chExt cx="162360" cy="9448560"/>
          </a:xfrm>
        </p:grpSpPr>
        <p:sp>
          <p:nvSpPr>
            <p:cNvPr id="72" name=""/>
            <p:cNvSpPr/>
            <p:nvPr/>
          </p:nvSpPr>
          <p:spPr>
            <a:xfrm flipH="1" rot="5400000">
              <a:off x="-537840" y="5101560"/>
              <a:ext cx="1292760" cy="161640"/>
            </a:xfrm>
            <a:prstGeom prst="parallelogram">
              <a:avLst>
                <a:gd name="adj" fmla="val 423512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-537840" y="6463080"/>
              <a:ext cx="1292760" cy="161640"/>
            </a:xfrm>
            <a:prstGeom prst="parallelogram">
              <a:avLst>
                <a:gd name="adj" fmla="val 423512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-536760" y="7822080"/>
              <a:ext cx="1292760" cy="162000"/>
            </a:xfrm>
            <a:prstGeom prst="parallelogram">
              <a:avLst>
                <a:gd name="adj" fmla="val 42257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5400000">
              <a:off x="-529920" y="9181440"/>
              <a:ext cx="1279080" cy="162000"/>
            </a:xfrm>
            <a:prstGeom prst="parallelogram">
              <a:avLst>
                <a:gd name="adj" fmla="val 418099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rot="5400000">
              <a:off x="-537840" y="1019160"/>
              <a:ext cx="1292760" cy="161640"/>
            </a:xfrm>
            <a:prstGeom prst="parallelogram">
              <a:avLst>
                <a:gd name="adj" fmla="val 423512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rot="5400000">
              <a:off x="-536760" y="2371320"/>
              <a:ext cx="1292760" cy="162000"/>
            </a:xfrm>
            <a:prstGeom prst="parallelogram">
              <a:avLst>
                <a:gd name="adj" fmla="val 42257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rot="5400000">
              <a:off x="-536760" y="3737160"/>
              <a:ext cx="1292760" cy="162000"/>
            </a:xfrm>
            <a:prstGeom prst="parallelogram">
              <a:avLst>
                <a:gd name="adj" fmla="val 42257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84240" y="0"/>
            <a:ext cx="50760" cy="990288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101520" y="3924360"/>
            <a:ext cx="1627200" cy="366480"/>
          </a:xfrm>
          <a:custGeom>
            <a:avLst/>
            <a:gdLst>
              <a:gd name="textAreaLeft" fmla="*/ 360 w 1627200"/>
              <a:gd name="textAreaRight" fmla="*/ 1627920 w 1627200"/>
              <a:gd name="textAreaTop" fmla="*/ 0 h 366480"/>
              <a:gd name="textAreaBottom" fmla="*/ 366840 h 36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1000" y="3894120"/>
            <a:ext cx="55440" cy="39672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8920" y="3898800"/>
            <a:ext cx="28440" cy="60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47800" y="3894120"/>
            <a:ext cx="55440" cy="39672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3600" y="3986280"/>
            <a:ext cx="1654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28440" y="0"/>
            <a:ext cx="162000" cy="9902520"/>
            <a:chOff x="28440" y="0"/>
            <a:chExt cx="162000" cy="9902520"/>
          </a:xfrm>
        </p:grpSpPr>
        <p:sp>
          <p:nvSpPr>
            <p:cNvPr id="86" name=""/>
            <p:cNvSpPr/>
            <p:nvPr/>
          </p:nvSpPr>
          <p:spPr>
            <a:xfrm rot="16200000">
              <a:off x="-536400" y="5782680"/>
              <a:ext cx="1292760" cy="161640"/>
            </a:xfrm>
            <a:prstGeom prst="parallelogram">
              <a:avLst>
                <a:gd name="adj" fmla="val 423512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-537480" y="7144920"/>
              <a:ext cx="1294560" cy="161640"/>
            </a:xfrm>
            <a:prstGeom prst="parallelogram">
              <a:avLst>
                <a:gd name="adj" fmla="val 42410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6200000">
              <a:off x="-536760" y="8505360"/>
              <a:ext cx="1292760" cy="161640"/>
            </a:xfrm>
            <a:prstGeom prst="parallelogram">
              <a:avLst>
                <a:gd name="adj" fmla="val 423512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200000">
              <a:off x="-537480" y="1694160"/>
              <a:ext cx="1294560" cy="161640"/>
            </a:xfrm>
            <a:prstGeom prst="parallelogram">
              <a:avLst>
                <a:gd name="adj" fmla="val 424101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6200000">
              <a:off x="-536760" y="3054600"/>
              <a:ext cx="1292760" cy="161640"/>
            </a:xfrm>
            <a:prstGeom prst="parallelogram">
              <a:avLst>
                <a:gd name="adj" fmla="val 423512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6200000">
              <a:off x="-536760" y="4420440"/>
              <a:ext cx="1292760" cy="161640"/>
            </a:xfrm>
            <a:prstGeom prst="parallelogram">
              <a:avLst>
                <a:gd name="adj" fmla="val 423512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9160" y="0"/>
              <a:ext cx="161280" cy="10659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8440" y="9306360"/>
              <a:ext cx="138600" cy="59616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9128160"/>
            <a:ext cx="1728720" cy="774720"/>
          </a:xfrm>
          <a:prstGeom prst="rect">
            <a:avLst/>
          </a:prstGeom>
          <a:gradFill rotWithShape="0">
            <a:gsLst>
              <a:gs pos="0">
                <a:srgbClr val="159b18"/>
              </a:gs>
              <a:gs pos="100000">
                <a:srgbClr val="09470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8264520"/>
            <a:ext cx="1728720" cy="934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73160" y="2735640"/>
            <a:ext cx="1555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1932"/>
                </a:solidFill>
                <a:latin typeface="Arial"/>
              </a:rPr>
              <a:t>EXPEDIENT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1932"/>
                </a:solidFill>
                <a:latin typeface="Arial"/>
              </a:rPr>
              <a:t>TECNIC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73160" y="9407520"/>
            <a:ext cx="155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[</a:t>
            </a: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ORIGINAL</a:t>
            </a: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85760" y="8089560"/>
            <a:ext cx="137016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1932"/>
                </a:solidFill>
                <a:latin typeface="Arial Black"/>
              </a:rPr>
              <a:t>TOMO II DE II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932"/>
                </a:solidFill>
                <a:latin typeface="Arial Black"/>
              </a:rPr>
              <a:t>200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-1904760" y="5127120"/>
            <a:ext cx="4824360" cy="101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b650d"/>
                </a:solidFill>
                <a:latin typeface="Times New Roman"/>
              </a:rPr>
              <a:t>ESTUDIO DEFINITIVO “REHABILITACIÓN, AMPLIACION Y EQUIPAMIENTO DEL CENTRO DE SALUD PUERTO NUEVO - CALLAO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1728720" cy="2143080"/>
          </a:xfrm>
          <a:prstGeom prst="rect">
            <a:avLst/>
          </a:prstGeom>
          <a:gradFill rotWithShape="0">
            <a:gsLst>
              <a:gs pos="0">
                <a:srgbClr val="159b18"/>
              </a:gs>
              <a:gs pos="100000">
                <a:srgbClr val="09470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5160" y="1430280"/>
            <a:ext cx="1609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utura Md BT"/>
              </a:rPr>
              <a:t>GOBIERNO  REGIONAL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Futura Md BT"/>
              </a:rPr>
              <a:t> DEL  CALLA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2351160"/>
            <a:ext cx="1725480" cy="7920"/>
          </a:xfrm>
          <a:prstGeom prst="line">
            <a:avLst/>
          </a:prstGeom>
          <a:ln w="127080">
            <a:solidFill>
              <a:srgbClr val="159b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2209680"/>
            <a:ext cx="1724040" cy="5040"/>
          </a:xfrm>
          <a:prstGeom prst="line">
            <a:avLst/>
          </a:prstGeom>
          <a:ln w="127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17640"/>
            <a:ext cx="1730520" cy="9902520"/>
          </a:xfrm>
          <a:prstGeom prst="rect">
            <a:avLst/>
          </a:prstGeom>
          <a:noFill/>
          <a:ln w="38160">
            <a:solidFill>
              <a:srgbClr val="0019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549360" y="106200"/>
            <a:ext cx="631800" cy="1100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1T14:28:45Z</dcterms:created>
  <dc:creator>ULISES BARRIONUEVO JARA</dc:creator>
  <dc:description/>
  <dc:language>en-US</dc:language>
  <cp:lastModifiedBy>bruesta</cp:lastModifiedBy>
  <cp:lastPrinted>2000-02-04T17:24:34Z</cp:lastPrinted>
  <dcterms:modified xsi:type="dcterms:W3CDTF">2007-08-08T19:44:44Z</dcterms:modified>
  <cp:revision>49</cp:revision>
  <dc:subject/>
  <dc:title>Sin título de diapositiva</dc:title>
</cp:coreProperties>
</file>