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199313" cy="9510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A77F-6D71-461B-B7B2-E6AF797E4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CFA3-7159-4A96-9F32-B4A30F83B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2E0-4B7C-4E1F-89FA-AC50A3693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CBFA-761A-49A7-A86F-DE037F0E2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83FB-287A-485B-9143-4783A3B6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486-F073-4E7B-9198-709A94E84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963C-561C-4C78-8B2C-4C19C3FB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742-45EA-42BC-A987-3218A7C0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2693-F6AF-460D-809E-F763644F8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BA53-53E7-4A5B-9BB2-D22C9836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351-2119-4999-84E7-8C45E5B2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6807-37B2-4C68-AB5D-1A9A65BF9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EC1-0FFA-4300-852C-1A3B64A7C16A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16000" y="1268280"/>
            <a:ext cx="7273800" cy="1440000"/>
          </a:xfrm>
          <a:prstGeom prst="rect">
            <a:avLst/>
          </a:prstGeom>
          <a:solidFill>
            <a:srgbClr val="3090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5080" y="4826160"/>
            <a:ext cx="215640" cy="1152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85080" y="4754520"/>
            <a:ext cx="216000" cy="122400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5280" y="4724280"/>
            <a:ext cx="216000" cy="13017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3068640"/>
            <a:ext cx="7272360" cy="187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08080" y="2209680"/>
            <a:ext cx="7280280" cy="1074960"/>
          </a:xfrm>
          <a:prstGeom prst="rect">
            <a:avLst/>
          </a:prstGeom>
          <a:solidFill>
            <a:srgbClr val="b4ed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2720" y="5979960"/>
            <a:ext cx="8136000" cy="142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3429000"/>
            <a:ext cx="3156120" cy="85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NT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S/. 980,288.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LAZO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120 DN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IAMIENTO  : RENTA DE ADUAN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DALIDAD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: LICITACION PUBL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187280" y="2349360"/>
            <a:ext cx="7118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OBRA: REHABILITACION, AMPLIACION</a:t>
            </a:r>
            <a:endParaRPr b="0" lang="en-US" sz="16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0">
                  <a:noFill/>
                </a:ln>
                <a:solidFill>
                  <a:srgbClr val="000000"/>
                </a:solidFill>
                <a:latin typeface="Arial Black"/>
              </a:rPr>
              <a:t>Y EQUIPAMIENTO DEL  CENTRO DE SALUD PUERTO NUEVO - CALLAO</a:t>
            </a:r>
            <a:endParaRPr b="0" lang="en-US" sz="1600" spc="1" strike="noStrike">
              <a:ln w="0">
                <a:noFill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50920" y="1484280"/>
            <a:ext cx="59770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Gobierno Regional del Callao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90792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20 x 3.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43000" y="1298520"/>
            <a:ext cx="620640" cy="9064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6372360" y="4014720"/>
            <a:ext cx="158436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Alex  Kouri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659640" y="4195800"/>
            <a:ext cx="936720" cy="10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Presidente </a:t>
            </a:r>
            <a:endParaRPr b="1" lang="en-US" sz="18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89080" y="4365720"/>
            <a:ext cx="35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007a00"/>
                </a:solidFill>
                <a:latin typeface="Arial Narrow"/>
              </a:rPr>
              <a:t>¡Trabajando para ti, en todas par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940360" y="4941720"/>
            <a:ext cx="216000" cy="1008360"/>
          </a:xfrm>
          <a:prstGeom prst="rect">
            <a:avLst/>
          </a:prstGeom>
          <a:solidFill>
            <a:srgbClr val="99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2T20:38:54Z</dcterms:created>
  <dc:creator>EPUGA</dc:creator>
  <dc:description/>
  <dc:language>en-US</dc:language>
  <cp:lastModifiedBy>mbenitesc</cp:lastModifiedBy>
  <cp:lastPrinted>2007-02-13T13:44:35Z</cp:lastPrinted>
  <dcterms:modified xsi:type="dcterms:W3CDTF">2007-08-08T16:23:43Z</dcterms:modified>
  <cp:revision>92</cp:revision>
  <dc:subject/>
  <dc:title>Diapositiva 1</dc:title>
</cp:coreProperties>
</file>