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2288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B458-F801-4C52-BC9A-8103EB001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6525-F949-4ECD-A7ED-BDDB79417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3671-69D8-431D-A9AE-42BEC9110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9B56-5F6C-4C56-8674-57DFEC205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32B5-761A-4766-9DB8-F8FB757A7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0D6E-E788-4CFD-9285-4915014DA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A13B-7214-4C52-B214-193BCF6EB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1E60-6771-48BC-9B94-1CEF633AF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5CD1-C602-4D8D-9F64-28BE37CD8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C2E1-6B31-4351-B2CF-87B5D33D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3A3E-F6AD-4D7B-B2F9-94FDB85C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28E7-C1D4-4362-A955-27DCD91C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218CB-C3F2-4E33-BDEA-2C287E2A8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-15840"/>
            <a:ext cx="6858000" cy="792000"/>
          </a:xfrm>
          <a:prstGeom prst="rect">
            <a:avLst/>
          </a:prstGeom>
          <a:gradFill rotWithShape="0">
            <a:gsLst>
              <a:gs pos="0">
                <a:srgbClr val="042f05"/>
              </a:gs>
              <a:gs pos="100000">
                <a:srgbClr val="0e8811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874960" y="920880"/>
            <a:ext cx="1058760" cy="1639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692280" y="200160"/>
            <a:ext cx="54799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Gobierno Regional del Callao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1268280" y="5816520"/>
            <a:ext cx="43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650d"/>
                </a:solidFill>
                <a:latin typeface="Futura Md BT"/>
              </a:rPr>
              <a:t>ESTUDIO DEFINI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92280" y="6681960"/>
            <a:ext cx="568944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650d"/>
                </a:solidFill>
                <a:latin typeface="Arial Black"/>
              </a:rPr>
              <a:t>“</a:t>
            </a:r>
            <a:r>
              <a:rPr b="0" lang="en-US" sz="2400" spc="-1" strike="noStrike">
                <a:solidFill>
                  <a:srgbClr val="0b650d"/>
                </a:solidFill>
                <a:latin typeface="Arial Black"/>
              </a:rPr>
              <a:t>REHABILITACIÓN, AMPLIACIÓN Y EQUIPAMIENTO DEL CENTRO DE SALUD PUERTO NUEVO – CALL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b650d"/>
                </a:solidFill>
                <a:latin typeface="Arial Black"/>
              </a:rPr>
              <a:t>TOMO I DE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28640" y="8985240"/>
            <a:ext cx="36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b650d"/>
                </a:solidFill>
                <a:latin typeface="Futura Md BT"/>
              </a:rPr>
              <a:t>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268280" y="2649600"/>
            <a:ext cx="424836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21:15:05Z</dcterms:created>
  <dc:creator>fhernandez</dc:creator>
  <dc:description/>
  <dc:language>en-US</dc:language>
  <cp:lastModifiedBy>bruesta</cp:lastModifiedBy>
  <dcterms:modified xsi:type="dcterms:W3CDTF">2007-08-08T19:37:39Z</dcterms:modified>
  <cp:revision>10</cp:revision>
  <dc:subject/>
  <dc:title>Diapositiva 1</dc:title>
</cp:coreProperties>
</file>