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F93C-C006-46F8-90F0-53A6E3FA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2CC-629D-423B-90FF-4D97AE98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633-E315-4523-8E91-CCDE619D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4A4-8E67-4644-BF4A-95709D51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39D-14AB-450C-94D5-DB575D5C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5DE-4E3C-4FB8-B675-7677F53C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AE2-ED1C-47EF-A280-C346D5E4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7D1-6FF0-4F51-8188-A444749A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B03-1825-44C7-BEA7-DE12C97B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B3A-A4EC-42C9-ADB4-5C991A8C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CBD-B257-4782-8EF1-6C744BCB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201-F251-4EB3-888B-AF94BE87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884D-7DED-499F-A736-04342CADF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268280"/>
            <a:ext cx="7273800" cy="1440000"/>
          </a:xfrm>
          <a:prstGeom prst="rect">
            <a:avLst/>
          </a:prstGeom>
          <a:solidFill>
            <a:srgbClr val="309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5080" y="4826160"/>
            <a:ext cx="215640" cy="11523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5080" y="4754520"/>
            <a:ext cx="216000" cy="12240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4683240"/>
            <a:ext cx="215640" cy="13017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2997360"/>
            <a:ext cx="727236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133720"/>
            <a:ext cx="7280280" cy="1074600"/>
          </a:xfrm>
          <a:prstGeom prst="rect">
            <a:avLst/>
          </a:prstGeom>
          <a:solidFill>
            <a:srgbClr val="b4ed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2720" y="5979960"/>
            <a:ext cx="8136000" cy="142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3429000"/>
            <a:ext cx="32274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NT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S/. 688,065.5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Z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60 DN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IAMIENTO  : RENTA DE ADUANAS - CAF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DALIDAD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CONCURSO PUBL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16000" y="2349360"/>
            <a:ext cx="718992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OBRA: "SERVICIO DE MANTENIMIENTO DE LA INFRAESTRUCTURA, INSTALACIONES SANITARIAS Y ELECTRICAS DEL COLEGIO MILITAR LEONCIO PRADO" - LA PERLA - CALLAO</a:t>
            </a:r>
            <a:endParaRPr b="0" lang="en-US" sz="16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50920" y="1484280"/>
            <a:ext cx="59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Gobierno Regional del Calla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9079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00 x 3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20640" cy="906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372360" y="4014720"/>
            <a:ext cx="1584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Alex  Kouri 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659640" y="4195800"/>
            <a:ext cx="9367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Presidente 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9080" y="4365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7a00"/>
                </a:solidFill>
                <a:latin typeface="Arial Narrow"/>
              </a:rPr>
              <a:t>¡Trabajando para ti, en todas par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20:38:54Z</dcterms:created>
  <dc:creator>EPUGA</dc:creator>
  <dc:description/>
  <dc:language>en-US</dc:language>
  <cp:lastModifiedBy>GGARCIA</cp:lastModifiedBy>
  <cp:lastPrinted>2007-02-13T13:44:35Z</cp:lastPrinted>
  <dcterms:modified xsi:type="dcterms:W3CDTF">2007-09-11T17:29:00Z</dcterms:modified>
  <cp:revision>92</cp:revision>
  <dc:subject/>
  <dc:title>Diapositiva 1</dc:title>
</cp:coreProperties>
</file>