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7058-9839-49E6-AA02-52374C6AF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10FF-5267-4C4F-891D-60681026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A799-4638-4878-BEE1-C60AEA390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B8ED-B521-4DB7-B4D6-0EEC5886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0CBC-C70D-4301-9188-AFDA14C8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D92A-CCDA-42B3-90A1-9D810313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D3E4-4F02-4F80-B155-9D9BDB3C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3A92-5C3D-4095-B282-D1302141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FAD2-07B8-4B76-B31E-9FA6B678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F124-9987-46C8-854E-D071042C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CD9D-BB3A-4107-B45B-C3840BDD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0E50-FB17-4E80-ACAC-5CF0C520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086E-0468-48E5-8FFF-79AF7395A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4680" y="1528920"/>
            <a:ext cx="5800680" cy="3800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95280" y="1519200"/>
            <a:ext cx="11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OR VER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96760" y="1773360"/>
            <a:ext cx="93852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3068640"/>
            <a:ext cx="72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ETRAS COLOR NEG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2760" y="3573360"/>
            <a:ext cx="100800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64360" y="3367080"/>
            <a:ext cx="6508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 FU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948360" y="4005360"/>
            <a:ext cx="50184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33480" y="1138320"/>
            <a:ext cx="468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ÑAL DE RUTA DE EVACUACIÓN (DERECHA E IZQUIERD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76360" y="5445000"/>
            <a:ext cx="575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1440" y="544500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0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740720" y="1557360"/>
            <a:ext cx="0" cy="3743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7568640" y="3224880"/>
            <a:ext cx="64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0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084720" y="4043520"/>
            <a:ext cx="81144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1332000" y="1846440"/>
          <a:ext cx="6119640" cy="38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846440"/>
                    <a:ext cx="6119640" cy="38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1619280" y="1571760"/>
            <a:ext cx="46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ÑAL DE TIMBRE ALAR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6200000">
            <a:off x="346680" y="3910680"/>
            <a:ext cx="863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VER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101600" y="3611160"/>
            <a:ext cx="43200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1440" y="824040"/>
            <a:ext cx="865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GO A FU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6881760" y="1479600"/>
            <a:ext cx="337320" cy="619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16360" y="487440"/>
            <a:ext cx="115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ETRAS CO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Arial"/>
              </a:rPr>
              <a:t>BLAN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82040" y="1132200"/>
            <a:ext cx="256320" cy="114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32000" y="5878440"/>
            <a:ext cx="6046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21080" y="610704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0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13800" y="1917720"/>
            <a:ext cx="0" cy="367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7641360" y="351324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0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6013440" y="2120760"/>
            <a:ext cx="1152360" cy="7448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 rot="16200000">
            <a:off x="3690000" y="3272400"/>
            <a:ext cx="3167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200" spc="-1" strike="noStrike">
                <a:solidFill>
                  <a:srgbClr val="ffffff"/>
                </a:solidFill>
                <a:latin typeface="Antique Olive Compact"/>
              </a:rPr>
              <a:t>ALARMA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2840040"/>
            <a:ext cx="1584360" cy="1596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74680" y="1450800"/>
            <a:ext cx="6696000" cy="4499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rot="16200000">
            <a:off x="1678680" y="776880"/>
            <a:ext cx="790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VER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68360" y="1268280"/>
            <a:ext cx="346320" cy="938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3446280" y="666360"/>
            <a:ext cx="865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GO A FU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11640" y="1197000"/>
            <a:ext cx="56340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5108400" y="808200"/>
            <a:ext cx="78912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ETR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Arial"/>
              </a:rPr>
              <a:t>BLAN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1268280"/>
            <a:ext cx="50508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-1121760" y="3579120"/>
            <a:ext cx="38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ÑAL DE RUTA DE EVACUACIÓN EN ESCA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58920" y="6033960"/>
            <a:ext cx="65498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3781080" y="603180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0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56720" y="1484280"/>
            <a:ext cx="0" cy="4390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7784280" y="372924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0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248000" y="1725480"/>
            <a:ext cx="11876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425600" y="1125360"/>
            <a:ext cx="5905440" cy="3980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rot="16200000">
            <a:off x="3911400" y="5025960"/>
            <a:ext cx="789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VER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3441600" y="4510080"/>
            <a:ext cx="62568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665600" y="4726080"/>
            <a:ext cx="79236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522680" y="3933720"/>
            <a:ext cx="93528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200000">
            <a:off x="6782400" y="344808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ETRAS COLOR VR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6681960" y="3214800"/>
            <a:ext cx="76968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3229560" y="378720"/>
            <a:ext cx="8668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GO A FU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17960" y="765000"/>
            <a:ext cx="50472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-979200" y="2931840"/>
            <a:ext cx="38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ÑAL DE ZONA SEGURA EN CASO DE SIS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6360" y="5602320"/>
            <a:ext cx="58658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0800000">
            <a:off x="3781080" y="560016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0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40720" y="1197000"/>
            <a:ext cx="0" cy="3851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7568640" y="3224880"/>
            <a:ext cx="64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0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140360" y="1341360"/>
            <a:ext cx="104292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4360" y="1436760"/>
            <a:ext cx="6408720" cy="3635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476360" y="1052640"/>
            <a:ext cx="46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ÑAL DE SALIDA EN PUERTA PRINCI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20000" y="2952720"/>
            <a:ext cx="865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GO A FU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(recorta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814800" y="3837240"/>
            <a:ext cx="556920" cy="52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2714760"/>
            <a:ext cx="647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VER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6720" y="3200400"/>
            <a:ext cx="719280" cy="372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21440" y="1700280"/>
            <a:ext cx="7192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ETRAS CO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Arial"/>
              </a:rPr>
              <a:t>BLAN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164280" y="2330640"/>
            <a:ext cx="1062000" cy="531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5229360"/>
            <a:ext cx="6262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81440" y="537228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0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740720" y="1484280"/>
            <a:ext cx="0" cy="3527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7569720" y="314964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0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53120" y="3789360"/>
            <a:ext cx="6508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87280" y="1492200"/>
            <a:ext cx="6193080" cy="4181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rot="16200000">
            <a:off x="637200" y="667080"/>
            <a:ext cx="8665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GO A FU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03280" y="1198440"/>
            <a:ext cx="27936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014120" y="3579120"/>
            <a:ext cx="38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ÑAL INDICADORA DE RIESGO ELÉCTR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6165720" y="555480"/>
            <a:ext cx="865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RAS NEGRAS EN FONDO AMARIL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653080" y="1198440"/>
            <a:ext cx="57456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372360" y="1341360"/>
            <a:ext cx="72720" cy="144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2443680" y="588240"/>
            <a:ext cx="93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ÍMBOLO Y CONTORNO NEGRO EN FONDO AMARIL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4920" y="1414440"/>
            <a:ext cx="7308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48000" y="1198440"/>
            <a:ext cx="863640" cy="151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5746680"/>
            <a:ext cx="60102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679400">
            <a:off x="3563640" y="574416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0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23280" y="1557360"/>
            <a:ext cx="0" cy="4067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7350840" y="352584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0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476360" y="1700280"/>
            <a:ext cx="11876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28880" y="1344600"/>
            <a:ext cx="6697440" cy="4533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16200000">
            <a:off x="3230280" y="593280"/>
            <a:ext cx="865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GO A FU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81600" y="981000"/>
            <a:ext cx="64764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1523880" y="709560"/>
            <a:ext cx="642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OJ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38320" y="1125360"/>
            <a:ext cx="122256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5076720" y="705960"/>
            <a:ext cx="71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ETRAS COLOR BLAN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10320" y="1054080"/>
            <a:ext cx="57456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-1194840" y="3435120"/>
            <a:ext cx="38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ÑAL DE UBICACIÓN DE EXTIN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5962680"/>
            <a:ext cx="65502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3925440" y="596052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0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885080" y="1413000"/>
            <a:ext cx="0" cy="4390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7712640" y="374184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0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05440" y="1700280"/>
            <a:ext cx="118728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32000" y="1338120"/>
            <a:ext cx="5976720" cy="4040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rot="16200000">
            <a:off x="3159000" y="522360"/>
            <a:ext cx="865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GO A FU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97440" y="981000"/>
            <a:ext cx="57456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284480" y="669600"/>
            <a:ext cx="718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VER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36720" y="1052640"/>
            <a:ext cx="720720" cy="10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4705200" y="777960"/>
            <a:ext cx="71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ETRAS COLOR BLAN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92720" y="1052640"/>
            <a:ext cx="574560" cy="115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-712440" y="3326760"/>
            <a:ext cx="33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ÑAL DE UBICACIÓN DE BOTIQU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03280" y="5516640"/>
            <a:ext cx="58658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3708000" y="551448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0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451640" y="1413000"/>
            <a:ext cx="0" cy="392256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7339680" y="329580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0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960720" y="1628640"/>
            <a:ext cx="11876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042920" y="1701720"/>
          <a:ext cx="6120000" cy="35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01720"/>
                    <a:ext cx="6120000" cy="35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1474920" y="2643120"/>
            <a:ext cx="53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>
                <a:solidFill>
                  <a:srgbClr val="ffffff"/>
                </a:solidFill>
                <a:latin typeface="Antique Olive Compact"/>
              </a:rPr>
              <a:t>TÓPIC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30200" y="1282680"/>
            <a:ext cx="468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ÑAL DE UBICACIÓN DE TÓP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2925720"/>
            <a:ext cx="863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VER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3430440"/>
            <a:ext cx="64800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91280" y="3027240"/>
            <a:ext cx="865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GO A FU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953400" y="3849840"/>
            <a:ext cx="486360" cy="45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12000" y="981000"/>
            <a:ext cx="115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ETRAS CO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Arial"/>
              </a:rPr>
              <a:t>BLAN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163560" y="1572840"/>
            <a:ext cx="165240" cy="1375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42920" y="5445000"/>
            <a:ext cx="60469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21080" y="544500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0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885080" y="1700280"/>
            <a:ext cx="0" cy="3490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6200000">
            <a:off x="7713000" y="3224880"/>
            <a:ext cx="64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0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6110280" y="3754440"/>
            <a:ext cx="76680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1042920" y="1701720"/>
          <a:ext cx="6120000" cy="35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01720"/>
                    <a:ext cx="6120000" cy="35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341440" y="213372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ffff"/>
                </a:solidFill>
                <a:latin typeface="Antique Olive Compact"/>
              </a:rPr>
              <a:t>AFOR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30200" y="1282680"/>
            <a:ext cx="468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ÑAL DE AFO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2925720"/>
            <a:ext cx="863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VER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6920" y="3430440"/>
            <a:ext cx="64800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91280" y="3027240"/>
            <a:ext cx="865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GO A FU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6953400" y="3849840"/>
            <a:ext cx="486360" cy="45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2000" y="981000"/>
            <a:ext cx="115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ETRAS CO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Arial"/>
              </a:rPr>
              <a:t>BLAN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163560" y="1572840"/>
            <a:ext cx="165240" cy="1375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42920" y="5445000"/>
            <a:ext cx="60469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21080" y="544500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0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885080" y="1700280"/>
            <a:ext cx="0" cy="3490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6200000">
            <a:off x="7713000" y="3224880"/>
            <a:ext cx="64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0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6156360" y="3789360"/>
            <a:ext cx="744480" cy="1152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763640" y="331956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ntique Olive Compact"/>
              </a:rPr>
              <a:t>XX PERSON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17:26:58Z</dcterms:created>
  <dc:creator>emanrique</dc:creator>
  <dc:description/>
  <dc:language>en-US</dc:language>
  <cp:lastModifiedBy>eechegaray</cp:lastModifiedBy>
  <dcterms:modified xsi:type="dcterms:W3CDTF">2007-07-20T16:26:54Z</dcterms:modified>
  <cp:revision>47</cp:revision>
  <dc:subject/>
  <dc:title>Diapositiva 1</dc:title>
</cp:coreProperties>
</file>