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FFD-7967-41C2-84F4-B577C485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240-5FB9-4DE1-BFD4-4F3594FD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46D-F0A4-4A90-A397-7195BA58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DBC-4E32-47A2-A356-B133A400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302-6550-4878-85F4-7EB5886A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4E7-6A42-4C4E-8F3A-E123FD0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134-7BA2-4ED1-8547-EE0B166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237-5DF9-428F-AC12-6944A95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5B6-E400-4AA3-AAAA-A4C6623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D7E-1469-43FD-AD59-02A94C9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2FD-98FB-4E57-8665-403604D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8B-DE7C-40AC-BBBC-A1DAF09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8978-2443-4BA0-8A2D-C1DA7A4B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4680" y="1528920"/>
            <a:ext cx="5800680" cy="380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519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6760" y="1773360"/>
            <a:ext cx="9385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068640"/>
            <a:ext cx="7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NEG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2760" y="357336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3367080"/>
            <a:ext cx="6508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948360" y="4005360"/>
            <a:ext cx="5018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3480" y="113832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RUTA DE EVACUACIÓN (DERECHA E IZQUIER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5445000"/>
            <a:ext cx="575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557360"/>
            <a:ext cx="0" cy="374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56864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84720" y="4043520"/>
            <a:ext cx="8114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332000" y="1846440"/>
          <a:ext cx="611964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6440"/>
                    <a:ext cx="61196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19280" y="157176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TIMBRE AL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46680" y="3910680"/>
            <a:ext cx="86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101600" y="3611160"/>
            <a:ext cx="432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1440" y="8240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881760" y="1479600"/>
            <a:ext cx="33732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8744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82040" y="1132200"/>
            <a:ext cx="256320" cy="114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5878440"/>
            <a:ext cx="6046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61070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1917720"/>
            <a:ext cx="0" cy="367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7641360" y="35132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13440" y="2120760"/>
            <a:ext cx="1152360" cy="744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6200000">
            <a:off x="3690000" y="3272400"/>
            <a:ext cx="31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ffffff"/>
                </a:solidFill>
                <a:latin typeface="Antique Olive Compact"/>
              </a:rPr>
              <a:t>ALARM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840040"/>
            <a:ext cx="1584360" cy="1596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74680" y="1450800"/>
            <a:ext cx="6696000" cy="449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1678680" y="776880"/>
            <a:ext cx="790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268280"/>
            <a:ext cx="346320" cy="93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446280" y="666360"/>
            <a:ext cx="86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1197000"/>
            <a:ext cx="5634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108400" y="808200"/>
            <a:ext cx="7891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268280"/>
            <a:ext cx="50508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121760" y="3579120"/>
            <a:ext cx="38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RUTA DE EVACUACIÓN EN ESC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6033960"/>
            <a:ext cx="6549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3781080" y="60318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1484280"/>
            <a:ext cx="0" cy="43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7784280" y="37292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48000" y="172548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25600" y="1125360"/>
            <a:ext cx="5905440" cy="398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6200000">
            <a:off x="3911400" y="5025960"/>
            <a:ext cx="78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441600" y="4510080"/>
            <a:ext cx="6256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665600" y="4726080"/>
            <a:ext cx="792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522680" y="3933720"/>
            <a:ext cx="935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782400" y="344808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V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681960" y="3214800"/>
            <a:ext cx="7696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3229560" y="378720"/>
            <a:ext cx="866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17960" y="765000"/>
            <a:ext cx="504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979200" y="293184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ZONA SEGURA EN CASO DE S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5602320"/>
            <a:ext cx="586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781080" y="56001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1197000"/>
            <a:ext cx="0" cy="385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756864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10429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1436760"/>
            <a:ext cx="6408720" cy="363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76360" y="105264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SALIDA EN PUERT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2952720"/>
            <a:ext cx="865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recorta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14800" y="3837240"/>
            <a:ext cx="556920" cy="52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2714760"/>
            <a:ext cx="64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3200400"/>
            <a:ext cx="719280" cy="37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440" y="1700280"/>
            <a:ext cx="719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164280" y="2330640"/>
            <a:ext cx="1062000" cy="53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5229360"/>
            <a:ext cx="6262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1440" y="53722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1484280"/>
            <a:ext cx="0" cy="35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7569720" y="31496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3120" y="3789360"/>
            <a:ext cx="650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1492200"/>
            <a:ext cx="6193080" cy="418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6200000">
            <a:off x="637200" y="667080"/>
            <a:ext cx="866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198440"/>
            <a:ext cx="279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014120" y="3579120"/>
            <a:ext cx="38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INDICADORA DE RIESGO ELÉC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165720" y="555480"/>
            <a:ext cx="86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RAS NEGRAS EN FONDO AMAR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53080" y="1198440"/>
            <a:ext cx="5745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72360" y="1341360"/>
            <a:ext cx="7272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2443680" y="588240"/>
            <a:ext cx="93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ÍMBOLO Y CONTORNO NEGRO EN FONDO AMARI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1414440"/>
            <a:ext cx="730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1198440"/>
            <a:ext cx="863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5746680"/>
            <a:ext cx="601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679400">
            <a:off x="3563640" y="574416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3280" y="1557360"/>
            <a:ext cx="0" cy="406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350840" y="3525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28880" y="1344600"/>
            <a:ext cx="6697440" cy="453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3230280" y="593280"/>
            <a:ext cx="86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81600" y="98100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523880" y="709560"/>
            <a:ext cx="64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38320" y="1125360"/>
            <a:ext cx="12225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076720" y="70596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0320" y="1054080"/>
            <a:ext cx="5745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194840" y="34351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EXTIN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962680"/>
            <a:ext cx="655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925440" y="596052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5080" y="1413000"/>
            <a:ext cx="0" cy="43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712640" y="3741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05440" y="1700280"/>
            <a:ext cx="11872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338120"/>
            <a:ext cx="5976720" cy="404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16200000">
            <a:off x="3159000" y="52236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440" y="981000"/>
            <a:ext cx="5745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84480" y="669600"/>
            <a:ext cx="71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6720" y="1052640"/>
            <a:ext cx="72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705200" y="77796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 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1052640"/>
            <a:ext cx="57456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712440" y="332676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BOTIQU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5516640"/>
            <a:ext cx="586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3708000" y="55144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1413000"/>
            <a:ext cx="0" cy="3922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7339680" y="32958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60720" y="1628640"/>
            <a:ext cx="1187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42920" y="1701720"/>
          <a:ext cx="61200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1720"/>
                    <a:ext cx="612000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474920" y="264312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ff"/>
                </a:solidFill>
                <a:latin typeface="Antique Olive Compact"/>
              </a:rPr>
              <a:t>TÓPIC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0200" y="128268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UBICACIÓN DE TÓP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92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430440"/>
            <a:ext cx="648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1280" y="30272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53400" y="3849840"/>
            <a:ext cx="486360" cy="45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98100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63560" y="1572840"/>
            <a:ext cx="165240" cy="137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5445000"/>
            <a:ext cx="6046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108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1700280"/>
            <a:ext cx="0" cy="34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771300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110280" y="3754440"/>
            <a:ext cx="7668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042920" y="1701720"/>
          <a:ext cx="61200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1720"/>
                    <a:ext cx="612000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341440" y="213372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ntique Olive Compact"/>
              </a:rPr>
              <a:t>AFO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0200" y="1282680"/>
            <a:ext cx="468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ÑAL DE AF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925720"/>
            <a:ext cx="86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430440"/>
            <a:ext cx="648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1280" y="3027240"/>
            <a:ext cx="86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GO A 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953400" y="3849840"/>
            <a:ext cx="486360" cy="45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981000"/>
            <a:ext cx="115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TRAS CO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163560" y="1572840"/>
            <a:ext cx="165240" cy="137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5445000"/>
            <a:ext cx="6046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544500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1700280"/>
            <a:ext cx="0" cy="3490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7713000" y="322488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0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156360" y="3789360"/>
            <a:ext cx="74448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63640" y="33195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ntique Olive Compact"/>
              </a:rPr>
              <a:t>XX PERSON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7:26:58Z</dcterms:created>
  <dc:creator>emanrique</dc:creator>
  <dc:description/>
  <dc:language>en-US</dc:language>
  <cp:lastModifiedBy>eechegaray</cp:lastModifiedBy>
  <dcterms:modified xsi:type="dcterms:W3CDTF">2007-07-20T16:26:54Z</dcterms:modified>
  <cp:revision>47</cp:revision>
  <dc:subject/>
  <dc:title>Diapositiva 1</dc:title>
</cp:coreProperties>
</file>