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B13-7D46-499A-BC19-047AE2C5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D94-46F2-4B45-ADBD-666E8A74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860-A192-47BA-A06A-C9825AC9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69E-3B12-4712-9B45-AB7F4DF7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C89-D410-4524-9BE6-9790D453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8BC-EEDC-4E97-9DB2-CDAA4ED6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EEA-1196-45D0-82E7-BCBD976E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EE4-36A8-4821-A1BB-E29DE1C2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80E-5CFF-42F0-AF25-EE72B410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ECA-A22A-4D38-8D8E-DBB7B479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54B-0B10-4ECB-8A85-0104EDCF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646-8EA8-489A-86C9-7FA30918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2D20-30F6-4FDE-8B5F-0CDF492204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268280"/>
            <a:ext cx="7273800" cy="1440000"/>
          </a:xfrm>
          <a:prstGeom prst="rect">
            <a:avLst/>
          </a:prstGeom>
          <a:solidFill>
            <a:srgbClr val="309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5080" y="4826160"/>
            <a:ext cx="215640" cy="11523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85080" y="4754520"/>
            <a:ext cx="216000" cy="12240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14680" y="4754520"/>
            <a:ext cx="193680" cy="12304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4683240"/>
            <a:ext cx="216000" cy="13017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7440" y="3068640"/>
            <a:ext cx="727236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2233440"/>
            <a:ext cx="7273800" cy="908280"/>
          </a:xfrm>
          <a:prstGeom prst="rect">
            <a:avLst/>
          </a:prstGeom>
          <a:solidFill>
            <a:srgbClr val="b4ed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2720" y="5979960"/>
            <a:ext cx="8136000" cy="142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3429000"/>
            <a:ext cx="28800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NTO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: S/.1’606,468.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ZO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: 150 DN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IAMIENTO  : RENTA DE ADUANA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DALIDAD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: LICITACION PUBLIC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03280" y="2349360"/>
            <a:ext cx="669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"AMPLIACIÓN, REHABILITACIÓN Y EQUIPAMIENTO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DE LA I.E. Nº 5099 RICARDO PALMA - CALLAO"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50920" y="1484280"/>
            <a:ext cx="59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Gobierno Regional del Callao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9079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20 x 3.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298520"/>
            <a:ext cx="620640" cy="906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372360" y="4076640"/>
            <a:ext cx="1584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Alex  Kouri 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659640" y="4292640"/>
            <a:ext cx="9367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Presidente 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9080" y="43657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7a00"/>
                </a:solidFill>
                <a:latin typeface="Arial Narrow"/>
              </a:rPr>
              <a:t>¡Trabajando para ti, en todas par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114920" y="1268280"/>
            <a:ext cx="7272360" cy="36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9:33:26Z</dcterms:created>
  <dc:creator>jcastillo</dc:creator>
  <dc:description/>
  <dc:language>en-US</dc:language>
  <cp:lastModifiedBy>jcastillo</cp:lastModifiedBy>
  <dcterms:modified xsi:type="dcterms:W3CDTF">2007-07-31T19:11:31Z</dcterms:modified>
  <cp:revision>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80446555</vt:r8>
  </property>
  <property fmtid="{D5CDD505-2E9C-101B-9397-08002B2CF9AE}" pid="3" name="_AuthorEmail">
    <vt:lpwstr>jcastillo@regioncallao.gob.pe</vt:lpwstr>
  </property>
  <property fmtid="{D5CDD505-2E9C-101B-9397-08002B2CF9AE}" pid="4" name="_AuthorEmailDisplayName">
    <vt:lpwstr>Jhonny Castillo Peramas</vt:lpwstr>
  </property>
  <property fmtid="{D5CDD505-2E9C-101B-9397-08002B2CF9AE}" pid="5" name="_EmailSubject">
    <vt:lpwstr>CARTEL 2007 ACTUALIZADO.ppt</vt:lpwstr>
  </property>
</Properties>
</file>