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728788" cy="9902825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A6A-0469-4B77-8DA3-C5E8ADF6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14702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30040" y="6056640"/>
            <a:ext cx="14702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053-0F2E-413D-B2FA-A797FF61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3004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8352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7FB-EF73-415D-AD4D-FFB86B8D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27200" y="295272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24360" y="295272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230040" y="605664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727200" y="605664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1224360" y="605664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C20-EE3A-4E63-BA12-0611E916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C1E2-7CD1-45D4-8D8D-2DFC138C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30040" y="2952720"/>
            <a:ext cx="147024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27DF-A74F-4DEB-B399-B7370ED6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147024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5652-CC8A-41CF-A94B-BF4347BF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AA31-2D58-40B0-A05A-EBE4648E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18D5-22AF-4FE6-9419-F0DD3E39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30040" y="604800"/>
            <a:ext cx="1470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AE05-DF31-43AB-9F61-8B4A3903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3004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BCD7-4541-4853-8351-CC8C9AA5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230040" y="2952720"/>
            <a:ext cx="147024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AEB-ADD4-4D7F-95C2-225A951D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8352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8DD5-ACBA-41A2-AD5C-5D0C3DEC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30040" y="6056640"/>
            <a:ext cx="14702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E49F-5879-4347-8FFF-616758EE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14702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0040" y="6056640"/>
            <a:ext cx="14702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07D7-BD97-49AA-81BB-26C60D1A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3004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8352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EAFD-8CC6-4EE3-B034-156A060C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27200" y="295272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24360" y="295272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30040" y="605664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727200" y="605664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1224360" y="605664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07C3-C642-4ECA-9EC9-19772028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147024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EC9-D2D0-4C05-9271-F7F61D0C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63D-74D0-413E-B265-B1AE6B90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39E-230B-4871-AF0B-F358DCF7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30040" y="604800"/>
            <a:ext cx="1470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948-A67A-41C4-AE54-539A32BC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3004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61E-C251-46A5-83F7-5C766F31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8352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733-A324-48DC-8628-B1B3F866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30040" y="6056640"/>
            <a:ext cx="14702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B18-E0D5-46CA-86E1-ADEBA8E6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604800"/>
            <a:ext cx="147024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0040" y="2952720"/>
            <a:ext cx="147024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304560" indent="-11700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468360" indent="-9360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655920" indent="-9360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843480" indent="-9360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843480" indent="-9360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843480" indent="-9360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31480" y="9023400"/>
            <a:ext cx="361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93720" y="9023400"/>
            <a:ext cx="549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41000" y="9023400"/>
            <a:ext cx="360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4E4F-5E39-4BDE-8139-04B1600B928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8080" y="453600"/>
            <a:ext cx="162360" cy="9448560"/>
            <a:chOff x="28080" y="453600"/>
            <a:chExt cx="162360" cy="9448560"/>
          </a:xfrm>
        </p:grpSpPr>
        <p:sp>
          <p:nvSpPr>
            <p:cNvPr id="6" name=""/>
            <p:cNvSpPr/>
            <p:nvPr/>
          </p:nvSpPr>
          <p:spPr>
            <a:xfrm flipH="1" rot="5400000">
              <a:off x="-537840" y="510156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-537840" y="646308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-536760" y="7822080"/>
              <a:ext cx="1292760" cy="162000"/>
            </a:xfrm>
            <a:prstGeom prst="parallelogram">
              <a:avLst>
                <a:gd name="adj" fmla="val 42257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-529920" y="9181440"/>
              <a:ext cx="1279080" cy="162000"/>
            </a:xfrm>
            <a:prstGeom prst="parallelogram">
              <a:avLst>
                <a:gd name="adj" fmla="val 418099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-537840" y="101916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-536760" y="2371320"/>
              <a:ext cx="1292760" cy="162000"/>
            </a:xfrm>
            <a:prstGeom prst="parallelogram">
              <a:avLst>
                <a:gd name="adj" fmla="val 42257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-536760" y="3737160"/>
              <a:ext cx="1292760" cy="162000"/>
            </a:xfrm>
            <a:prstGeom prst="parallelogram">
              <a:avLst>
                <a:gd name="adj" fmla="val 42257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84240" y="0"/>
            <a:ext cx="50760" cy="990288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101520" y="2459160"/>
            <a:ext cx="1627200" cy="366480"/>
          </a:xfrm>
          <a:custGeom>
            <a:avLst/>
            <a:gdLst>
              <a:gd name="textAreaLeft" fmla="*/ 360 w 1627200"/>
              <a:gd name="textAreaRight" fmla="*/ 1627920 w 16272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8920" y="2463840"/>
            <a:ext cx="5220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8920" y="2762280"/>
            <a:ext cx="34920" cy="67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743120" y="2421000"/>
            <a:ext cx="5544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85680" y="2513160"/>
            <a:ext cx="165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28440" y="0"/>
            <a:ext cx="162000" cy="9902520"/>
            <a:chOff x="28440" y="0"/>
            <a:chExt cx="162000" cy="9902520"/>
          </a:xfrm>
        </p:grpSpPr>
        <p:sp>
          <p:nvSpPr>
            <p:cNvPr id="20" name=""/>
            <p:cNvSpPr/>
            <p:nvPr/>
          </p:nvSpPr>
          <p:spPr>
            <a:xfrm rot="16200000">
              <a:off x="-536400" y="578268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-537480" y="7144920"/>
              <a:ext cx="1294560" cy="161640"/>
            </a:xfrm>
            <a:prstGeom prst="parallelogram">
              <a:avLst>
                <a:gd name="adj" fmla="val 4241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-536760" y="850536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-537480" y="1694160"/>
              <a:ext cx="1294560" cy="161640"/>
            </a:xfrm>
            <a:prstGeom prst="parallelogram">
              <a:avLst>
                <a:gd name="adj" fmla="val 4241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-536760" y="305460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-536760" y="442044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9160" y="0"/>
              <a:ext cx="161280" cy="10659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8440" y="9306360"/>
              <a:ext cx="138600" cy="5961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1728720" cy="9902160"/>
            <a:chOff x="0" y="0"/>
            <a:chExt cx="1728720" cy="990216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1728720" cy="122616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7213320"/>
              <a:ext cx="1728720" cy="268884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6240" y="2200320"/>
            <a:ext cx="146664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246240" y="9023400"/>
            <a:ext cx="3585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705960" y="9023400"/>
            <a:ext cx="544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1355760" y="9023400"/>
            <a:ext cx="357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58CA-A413-462E-8F10-FEBE71A8F58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8080" y="453600"/>
            <a:ext cx="162360" cy="9448560"/>
            <a:chOff x="28080" y="453600"/>
            <a:chExt cx="162360" cy="9448560"/>
          </a:xfrm>
        </p:grpSpPr>
        <p:sp>
          <p:nvSpPr>
            <p:cNvPr id="72" name=""/>
            <p:cNvSpPr/>
            <p:nvPr/>
          </p:nvSpPr>
          <p:spPr>
            <a:xfrm flipH="1" rot="5400000">
              <a:off x="-537840" y="510156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-537840" y="646308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-536760" y="7822080"/>
              <a:ext cx="1292760" cy="162000"/>
            </a:xfrm>
            <a:prstGeom prst="parallelogram">
              <a:avLst>
                <a:gd name="adj" fmla="val 42257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-529920" y="9181440"/>
              <a:ext cx="1279080" cy="162000"/>
            </a:xfrm>
            <a:prstGeom prst="parallelogram">
              <a:avLst>
                <a:gd name="adj" fmla="val 418099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-537840" y="101916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-536760" y="2371320"/>
              <a:ext cx="1292760" cy="162000"/>
            </a:xfrm>
            <a:prstGeom prst="parallelogram">
              <a:avLst>
                <a:gd name="adj" fmla="val 42257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-536760" y="3737160"/>
              <a:ext cx="1292760" cy="162000"/>
            </a:xfrm>
            <a:prstGeom prst="parallelogram">
              <a:avLst>
                <a:gd name="adj" fmla="val 42257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84240" y="0"/>
            <a:ext cx="50760" cy="990288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01520" y="3924360"/>
            <a:ext cx="1627200" cy="366480"/>
          </a:xfrm>
          <a:custGeom>
            <a:avLst/>
            <a:gdLst>
              <a:gd name="textAreaLeft" fmla="*/ 360 w 1627200"/>
              <a:gd name="textAreaRight" fmla="*/ 1627920 w 16272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000" y="3894120"/>
            <a:ext cx="5544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8920" y="3898800"/>
            <a:ext cx="2844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47800" y="3894120"/>
            <a:ext cx="5544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600" y="3986280"/>
            <a:ext cx="16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8440" y="0"/>
            <a:ext cx="162000" cy="9902520"/>
            <a:chOff x="28440" y="0"/>
            <a:chExt cx="162000" cy="9902520"/>
          </a:xfrm>
        </p:grpSpPr>
        <p:sp>
          <p:nvSpPr>
            <p:cNvPr id="86" name=""/>
            <p:cNvSpPr/>
            <p:nvPr/>
          </p:nvSpPr>
          <p:spPr>
            <a:xfrm rot="16200000">
              <a:off x="-536400" y="578268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-537480" y="7144920"/>
              <a:ext cx="1294560" cy="161640"/>
            </a:xfrm>
            <a:prstGeom prst="parallelogram">
              <a:avLst>
                <a:gd name="adj" fmla="val 4241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-536760" y="850536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-537480" y="1694160"/>
              <a:ext cx="1294560" cy="161640"/>
            </a:xfrm>
            <a:prstGeom prst="parallelogram">
              <a:avLst>
                <a:gd name="adj" fmla="val 4241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-536760" y="305460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-536760" y="442044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160" y="0"/>
              <a:ext cx="161280" cy="10659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440" y="9306360"/>
              <a:ext cx="138600" cy="5961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9128160"/>
            <a:ext cx="1728720" cy="774720"/>
          </a:xfrm>
          <a:prstGeom prst="rect">
            <a:avLst/>
          </a:prstGeom>
          <a:gradFill rotWithShape="0">
            <a:gsLst>
              <a:gs pos="0">
                <a:srgbClr val="159b18"/>
              </a:gs>
              <a:gs pos="100000">
                <a:srgbClr val="0947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8264520"/>
            <a:ext cx="1728720" cy="93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3160" y="2735640"/>
            <a:ext cx="155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Arial"/>
              </a:rPr>
              <a:t>EXPEDIENT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Arial"/>
              </a:rPr>
              <a:t>TECN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3160" y="9407520"/>
            <a:ext cx="15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[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ORIGINAL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760" y="8089560"/>
            <a:ext cx="13701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2"/>
                </a:solidFill>
                <a:latin typeface="Arial Black"/>
              </a:rPr>
              <a:t>TOMO II DE I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Arial Black"/>
              </a:rPr>
              <a:t>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904760" y="5127120"/>
            <a:ext cx="48243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b650d"/>
                </a:solidFill>
                <a:latin typeface="Times New Roman"/>
              </a:rPr>
              <a:t>ESTUDIO DEFINITIVO “REHABILITACIÓN, AMPLIACION Y EQUIPAMIENTO DEL CENTRO DE SALUD PUERTO NUEVO - CALLA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728720" cy="2143080"/>
          </a:xfrm>
          <a:prstGeom prst="rect">
            <a:avLst/>
          </a:prstGeom>
          <a:gradFill rotWithShape="0">
            <a:gsLst>
              <a:gs pos="0">
                <a:srgbClr val="159b18"/>
              </a:gs>
              <a:gs pos="100000">
                <a:srgbClr val="0947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160" y="1430280"/>
            <a:ext cx="160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Md BT"/>
              </a:rPr>
              <a:t>GOBIERNO  REGION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Futura Md BT"/>
              </a:rPr>
              <a:t> DEL  CALLA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351160"/>
            <a:ext cx="1725480" cy="7920"/>
          </a:xfrm>
          <a:prstGeom prst="line">
            <a:avLst/>
          </a:prstGeom>
          <a:ln w="127080">
            <a:solidFill>
              <a:srgbClr val="159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09680"/>
            <a:ext cx="1724040" cy="504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640"/>
            <a:ext cx="1730520" cy="9902520"/>
          </a:xfrm>
          <a:prstGeom prst="rect">
            <a:avLst/>
          </a:prstGeom>
          <a:noFill/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49360" y="106200"/>
            <a:ext cx="631800" cy="110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4:28:45Z</dcterms:created>
  <dc:creator>ULISES BARRIONUEVO JARA</dc:creator>
  <dc:description/>
  <dc:language>en-US</dc:language>
  <cp:lastModifiedBy>bruesta</cp:lastModifiedBy>
  <cp:lastPrinted>2000-02-04T17:24:34Z</cp:lastPrinted>
  <dcterms:modified xsi:type="dcterms:W3CDTF">2007-08-08T19:44:44Z</dcterms:modified>
  <cp:revision>49</cp:revision>
  <dc:subject/>
  <dc:title>Sin título de diapositiva</dc:title>
</cp:coreProperties>
</file>