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1AB-0ECA-4945-A6E8-2DBD2AF9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A2A-07D5-423D-BBC1-B61E6F22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5F8-FD10-4769-9959-D988EA54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022-B6B5-4A3A-A9FD-4ACA9FB3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66D-00A5-4520-A7C1-B8EA444F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92A-6A38-4181-A580-A9C96BA8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B35-B002-4394-B713-6E10468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359-DD29-42EF-9F59-CB2447A5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969-457E-452E-8695-F97EBB4F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BB7-3DF0-443B-95C7-974C6C5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283-DD83-41FE-BCBF-C466498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EEE-1BF0-45E6-8193-FDC45B9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DA6-41F2-422B-9EEA-F5932ADA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74960" y="920880"/>
            <a:ext cx="105876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68280" y="58165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650d"/>
                </a:solidFill>
                <a:latin typeface="Futura Md BT"/>
              </a:rPr>
              <a:t>ESTUDIO DEFI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6681960"/>
            <a:ext cx="56894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650d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b650d"/>
                </a:solidFill>
                <a:latin typeface="Arial Black"/>
              </a:rPr>
              <a:t>REHABILITACIÓN, AMPLIACIÓN Y EQUIPAMIENTO DEL CENTRO DE SALUD PUERTO NUEVO – CALL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650d"/>
                </a:solidFill>
                <a:latin typeface="Arial Black"/>
              </a:rPr>
              <a:t>TOMO I D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8640" y="89852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68280" y="2649600"/>
            <a:ext cx="4248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1:15:05Z</dcterms:created>
  <dc:creator>fhernandez</dc:creator>
  <dc:description/>
  <dc:language>en-US</dc:language>
  <cp:lastModifiedBy>bruesta</cp:lastModifiedBy>
  <dcterms:modified xsi:type="dcterms:W3CDTF">2007-08-08T19:37:39Z</dcterms:modified>
  <cp:revision>10</cp:revision>
  <dc:subject/>
  <dc:title>Diapositiva 1</dc:title>
</cp:coreProperties>
</file>