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BBF-4D45-4C73-9ADA-B2C82601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1E6-8287-4A48-AD90-07CCE0B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46C-1C69-4FB0-8B40-089A6B24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8C9-C3BB-4771-A1C5-C47A0B70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8A9-8260-443A-8A72-E1F2D19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48E-4D4D-4A5C-831A-4F37D279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0A6-A38B-4064-A690-92CA08AB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04E-2CEB-44B0-804C-B875C9B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EF7-E956-459D-82D1-42ECBAF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0C9-B0AD-4BA2-A159-9F823D4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97D-718F-4DB7-B242-F26586C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A63-E70E-4253-94E4-C85EA8E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131F-538C-427E-A393-713D834F26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7273800" cy="1440000"/>
          </a:xfrm>
          <a:prstGeom prst="rect">
            <a:avLst/>
          </a:prstGeom>
          <a:solidFill>
            <a:srgbClr val="309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5080" y="4826160"/>
            <a:ext cx="215640" cy="1152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4754520"/>
            <a:ext cx="216000" cy="12240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4724280"/>
            <a:ext cx="216000" cy="130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068640"/>
            <a:ext cx="7272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8080" y="2209680"/>
            <a:ext cx="7280280" cy="1074960"/>
          </a:xfrm>
          <a:prstGeom prst="rect">
            <a:avLst/>
          </a:prstGeom>
          <a:solidFill>
            <a:srgbClr val="b4e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5979960"/>
            <a:ext cx="8136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429000"/>
            <a:ext cx="3156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T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S/. 980,288.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Z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120 D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MIENTO  : RENTA DE ADUA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ALIDA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LICITACION PUB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2349360"/>
            <a:ext cx="711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OBRA: REHABILITACION, AMPLIACION</a:t>
            </a:r>
            <a:endParaRPr b="0" lang="en-US" sz="16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Y EQUIPAMIENTO DEL  CENTRO DE SALUD PUERTO NUEVO - CALLAO</a:t>
            </a:r>
            <a:endParaRPr b="0" lang="en-US" sz="16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148428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Gobierno Regional del Calla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9079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20 x 3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298520"/>
            <a:ext cx="62064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372360" y="4014720"/>
            <a:ext cx="1584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Alex  Kouri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659640" y="4195800"/>
            <a:ext cx="9367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Presidente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9080" y="43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7a00"/>
                </a:solidFill>
                <a:latin typeface="Arial Narrow"/>
              </a:rPr>
              <a:t>¡Trabajando para ti, en todas par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941720"/>
            <a:ext cx="216000" cy="1008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0:38:54Z</dcterms:created>
  <dc:creator>EPUGA</dc:creator>
  <dc:description/>
  <dc:language>en-US</dc:language>
  <cp:lastModifiedBy>mbenitesc</cp:lastModifiedBy>
  <cp:lastPrinted>2007-02-13T13:44:35Z</cp:lastPrinted>
  <dcterms:modified xsi:type="dcterms:W3CDTF">2007-08-08T16:23:43Z</dcterms:modified>
  <cp:revision>92</cp:revision>
  <dc:subject/>
  <dc:title>Diapositiva 1</dc:title>
</cp:coreProperties>
</file>